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3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BF2-D238-47AC-9C69-879BD515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087-DC51-4548-B49B-91CE85B8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C8763-FA54-401E-B1E8-83B3F505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CCFEB-F0E5-45B6-8AA5-5DD4D75D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DD2F5-97AD-4D15-BB1F-75D9DA1C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56685-CC8C-40F2-91D0-6F59349C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613D6-B44F-4B84-8D4A-5ED766B2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1E391-1B0F-4B47-A3E7-19241B06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A5A7C-BD86-4F13-918E-576C97D4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9AC90-1B32-491D-B56A-1E2DB6F5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791DD-241F-4A43-A431-820B9BC7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BDA-53C5-40AB-9F84-BA6BCC3C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E36-596D-4BF2-AC0C-BB4C2452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68B3-53A0-422D-AABD-CB9CC9E3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5613-89E7-4BB0-A66C-A5AD2775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8A9D-2DBA-4976-A946-91E6B68C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2EC3-55C1-45AD-B28E-D4FD357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DD0F-03EF-4F7F-9656-ED7D6FEE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8B8-E74C-4477-B935-338C3417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D9A9-7543-4B43-A858-33E9916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035-3AD9-4682-A53F-A8D2FBAF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A43-3755-4C73-ADDD-C2E5941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57C5-DFDF-403F-9CAD-D3C8248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BAB5-B6B9-4081-A611-1908B8FD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1BAF-9055-43FB-8DBB-D63D0680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A5CA-BBA9-47D6-B3A2-552B7D92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09D1-68BF-4C46-A071-26236323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02EC-C789-4BDC-A651-5E8321E8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245E-775A-4075-9CA3-1301E223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8D7E-2875-43E2-9C93-CCB838AD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16DD-4B02-4921-AA97-7D4AE0D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AC9-F662-4EA0-97C5-6CF836E6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57ED-279C-46D0-BF2C-1CC9667F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9D0B-8870-4513-BFC9-7CFE564C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94D6-E71D-47B0-807F-58B76DC2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FB0E-300A-408F-AAC3-3075011D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BC5B-DAE7-4587-BF95-E5D2BD4B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C0E7-E365-4457-9596-BDA49AAC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2B10-07CB-4D09-9CA4-CEB189AF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95F4-41D9-4C3E-B527-73BB4825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B44F-785C-4D9C-8561-07FDF84E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3C45-35CB-4FA5-9955-CDB5E8DE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77C-32F0-4698-BC2F-8E37B57F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8200-7170-4ED4-85D1-4940CFA6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AD2B-FD94-4768-A6B7-C2F82D45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695E-46D4-4160-82B4-848D72AD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4F35-242C-4808-A4BB-92696157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2C891-FBFA-4282-8008-DF63E946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E07E-73A9-403C-8B18-87E67EE8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EC6E8-8A36-4829-9A41-25A6B44E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FA0A-9E8D-4EAA-B3C1-4624B00A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AB72-E047-486E-93FA-C0B733B5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5FAAD-F1E5-48E1-AB68-2C121F28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4A6-1865-4611-AB5C-948AA3A1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1F1EE-4FC2-4A34-B8AF-28B3BFEC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9154E-15FE-4016-9A7D-0AEC40A5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7F45-DE31-4162-81D1-86908EB7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CD39-9452-43A1-9385-700CE225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4F584-6E22-4CE8-BC6C-99F08680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A9A23-A759-4DF2-967E-EE2681D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262E2-D172-4F71-BDDD-8FF713AB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B461B-E20E-4EF8-A4BF-8786D09B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13F4D-B783-47C7-94B7-69AE89F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37102-C4D6-4E47-A3F2-92ED019C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2C8-526F-4927-9C61-EEAAE3AC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863EB-83AA-4368-B12C-C6000733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73CEE-95A1-4A7D-9E4B-A537D414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1EBC0-26FC-486A-9865-DFD3FF32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6629A-40FE-4901-8791-EE090D9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FCADD-899E-4607-BF6E-F00B34B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4702D-B554-48D6-9C43-462F5E91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1B17C-982C-41C1-8C0D-94379027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98E27-A063-40BB-86CE-4503882A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E1AA-6B48-4F3E-8EAF-88218E1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5EF9-BDAE-4AE9-8F59-61654736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3E8-F8FD-4ADA-B90D-F5CCD0CB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98DC-811B-4727-913B-0836C44F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35AD4-E98D-43BF-AF52-A5883F6B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DDE1F-E4D1-49FA-AFCA-0BC866AA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114E-02D8-4714-86AD-4F229B33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7B233-C026-4E47-B79B-BFA2D83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5FD0B-2F49-4F46-B6EC-5B3CDD1E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C280-EC4B-4292-9544-F755C4FF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7AE8-C376-4379-B45D-2253768C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E4056-EEA3-4D18-A5B6-7D83C25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D1247-CF47-462C-A6DC-DFC52B7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059-48CD-4362-B8AB-1037A34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20A25-F930-4367-A181-D39BFF7E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F8CBA-7595-4A48-9019-F779DA37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A19FA-DC95-45EA-8994-A9EDB636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63E8F-D226-49E7-95C3-EF32F8B8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1271F-4B95-4DBA-B824-3D82545D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B5677-1CA7-4334-A0AB-BA1262F1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659EE-3C48-4DF7-AC65-07E5819A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62E03-CCB7-4828-B179-92FE954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7ACCF-9476-41E6-B88D-06A0383F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024A1-E05A-40CD-BD47-413E58DD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612-C802-47E4-A863-1385EF83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46480-274B-42A6-B2D4-55F66AA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C865-FA94-4933-A439-639ED8B4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AA2E8-11F2-4D3C-993A-5B9C434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245C8-E92D-4820-BC60-C8D8FF10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217D2-68A0-45C1-BDFF-89F08D61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1A81F-4FE0-4A5C-8535-6B0508B4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4BDD1-7D15-4E78-8D4F-C3BF4CD9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29C52-DFF2-441A-BB2C-E8C6DBD6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25E49-C554-4A27-9F8E-08A39AFF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6AB25-0165-44B0-A0E4-294CC806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E254-407B-4016-9D96-6B3E7F99296F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10E9-FC26-41DB-920C-8F585659DA10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49EA-9EA0-4524-8199-292A5520DF77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6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021B-BF96-4CB3-93AD-A9E38DE368E8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0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0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9F1-E29F-4334-A100-5D9530C0F3FF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B1FF-1211-4EBE-918E-5FB848FB0E3E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7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7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877-62C3-4E1C-9A38-58D7784346CA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049C-D2F3-4B12-A102-1275EE31663D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5A5E-D4E3-4220-8F4A-6BBC34690A78}" type="slidenum">
              <a:rPr b="0" lang="es-E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Título" descr=""/>
          <p:cNvPicPr/>
          <p:nvPr/>
        </p:nvPicPr>
        <p:blipFill>
          <a:blip r:embed="rId1"/>
          <a:stretch/>
        </p:blipFill>
        <p:spPr>
          <a:xfrm>
            <a:off x="1616040" y="1579680"/>
            <a:ext cx="5699160" cy="33703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01" name="Object 1"/>
          <p:cNvGraphicFramePr/>
          <p:nvPr/>
        </p:nvGraphicFramePr>
        <p:xfrm>
          <a:off x="3780000" y="476280"/>
          <a:ext cx="1079280" cy="11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476280"/>
                    <a:ext cx="1079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3" name="MUSICA Sra. Lucy.mp3" descr=""/>
          <p:cNvPicPr/>
          <p:nvPr/>
        </p:nvPicPr>
        <p:blipFill>
          <a:blip r:embed="rId4"/>
          <a:stretch/>
        </p:blipFill>
        <p:spPr>
          <a:xfrm>
            <a:off x="4419720" y="478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1 Título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33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G:\fotografia IACE.jpg"/>
          <p:cNvPicPr/>
          <p:nvPr/>
        </p:nvPicPr>
        <p:blipFill>
          <a:blip r:embed="rId2"/>
          <a:stretch/>
        </p:blipFill>
        <p:spPr>
          <a:xfrm>
            <a:off x="1908000" y="1844640"/>
            <a:ext cx="53280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1 Título" descr=""/>
          <p:cNvPicPr/>
          <p:nvPr/>
        </p:nvPicPr>
        <p:blipFill>
          <a:blip r:embed="rId1"/>
          <a:stretch/>
        </p:blipFill>
        <p:spPr>
          <a:xfrm>
            <a:off x="165240" y="128520"/>
            <a:ext cx="8832600" cy="17240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e3b30"/>
                </a:solidFill>
                <a:latin typeface="Franklin Gothic Book"/>
              </a:rPr>
              <a:t>Logros ampliamente positivos en la educación de los niños, niñas y adolescentes que se observan reflejado en distintas variab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e3b30"/>
                </a:solidFill>
                <a:latin typeface="Franklin Gothic Book"/>
              </a:rPr>
              <a:t>Cambios considerablemente satisfactorios en el desempeño pedagógico de los docent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e3b30"/>
                </a:solidFill>
                <a:latin typeface="Franklin Gothic Book"/>
              </a:rPr>
              <a:t>Gestión institucional democrática y participativa que derivan en impactos significativo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1 Título" descr=""/>
          <p:cNvPicPr/>
          <p:nvPr/>
        </p:nvPicPr>
        <p:blipFill>
          <a:blip r:embed="rId1"/>
          <a:stretch/>
        </p:blipFill>
        <p:spPr>
          <a:xfrm>
            <a:off x="317520" y="298440"/>
            <a:ext cx="8393040" cy="1298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E:\IACE 2012\P1010391.JPG"/>
          <p:cNvPicPr/>
          <p:nvPr/>
        </p:nvPicPr>
        <p:blipFill>
          <a:blip r:embed="rId2"/>
          <a:stretch/>
        </p:blipFill>
        <p:spPr>
          <a:xfrm>
            <a:off x="1332000" y="1773360"/>
            <a:ext cx="554364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E:\DCIM\100GEDSC\GEDC1960.JPG"/>
          <p:cNvPicPr/>
          <p:nvPr/>
        </p:nvPicPr>
        <p:blipFill>
          <a:blip r:embed="rId1"/>
          <a:stretch/>
        </p:blipFill>
        <p:spPr>
          <a:xfrm>
            <a:off x="539640" y="1989000"/>
            <a:ext cx="8064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E:\DCIM\100GEDSC\GEDC1966.JPG"/>
          <p:cNvPicPr/>
          <p:nvPr/>
        </p:nvPicPr>
        <p:blipFill>
          <a:blip r:embed="rId1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e3b30"/>
                </a:solidFill>
                <a:latin typeface="comic"/>
                <a:ea typeface="Arial Unicode MS"/>
              </a:rPr>
              <a:t>“</a:t>
            </a:r>
            <a:r>
              <a:rPr b="1" lang="es-AR" sz="3200" spc="-1" strike="noStrike">
                <a:solidFill>
                  <a:srgbClr val="4e3b30"/>
                </a:solidFill>
                <a:latin typeface="comic"/>
                <a:ea typeface="Arial Unicode MS"/>
              </a:rPr>
              <a:t>TODOS LOS LOGROS NACE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e3b30"/>
                </a:solidFill>
                <a:latin typeface="comic"/>
                <a:ea typeface="Arial Unicode MS"/>
              </a:rPr>
              <a:t>CUANDO NOS ATREVEM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4e3b30"/>
                </a:solidFill>
                <a:latin typeface="comic"/>
                <a:ea typeface="Arial Unicode MS"/>
              </a:rPr>
              <a:t>A COMENZAR”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3 Estrella de 5 puntas"/>
          <p:cNvSpPr/>
          <p:nvPr/>
        </p:nvSpPr>
        <p:spPr>
          <a:xfrm>
            <a:off x="1262160" y="30924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4 Estrella de 5 puntas"/>
          <p:cNvSpPr/>
          <p:nvPr/>
        </p:nvSpPr>
        <p:spPr>
          <a:xfrm>
            <a:off x="6996240" y="31021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www.pais-global.com.ar/html/argentina/misiones/fisicoypolitico.jpg"/>
          <p:cNvPicPr/>
          <p:nvPr/>
        </p:nvPicPr>
        <p:blipFill>
          <a:blip r:embed="rId1"/>
          <a:stretch/>
        </p:blipFill>
        <p:spPr>
          <a:xfrm>
            <a:off x="2143080" y="500040"/>
            <a:ext cx="4429080" cy="5972040"/>
          </a:xfrm>
          <a:prstGeom prst="rect">
            <a:avLst/>
          </a:prstGeom>
          <a:ln w="0">
            <a:noFill/>
          </a:ln>
        </p:spPr>
      </p:pic>
      <p:cxnSp>
        <p:nvCxnSpPr>
          <p:cNvPr id="405" name="5 Conector recto de flecha"/>
          <p:cNvCxnSpPr>
            <a:endCxn id="406" idx="3"/>
          </p:cNvCxnSpPr>
          <p:nvPr/>
        </p:nvCxnSpPr>
        <p:spPr>
          <a:xfrm flipH="1" flipV="1">
            <a:off x="1755360" y="4220280"/>
            <a:ext cx="673920" cy="423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7" name="7 Conector recto de flecha"/>
          <p:cNvCxnSpPr>
            <a:endCxn id="408" idx="1"/>
          </p:cNvCxnSpPr>
          <p:nvPr/>
        </p:nvCxnSpPr>
        <p:spPr>
          <a:xfrm flipV="1">
            <a:off x="6143760" y="859680"/>
            <a:ext cx="1000800" cy="15692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9 Conector recto de flecha"/>
          <p:cNvCxnSpPr/>
          <p:nvPr/>
        </p:nvCxnSpPr>
        <p:spPr>
          <a:xfrm>
            <a:off x="3929040" y="4428720"/>
            <a:ext cx="2858400" cy="15008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11 Conector recto de flecha"/>
          <p:cNvCxnSpPr/>
          <p:nvPr/>
        </p:nvCxnSpPr>
        <p:spPr>
          <a:xfrm flipH="1" flipV="1">
            <a:off x="1571400" y="3142440"/>
            <a:ext cx="2643840" cy="5007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1" name="13 Conector recto de flecha"/>
          <p:cNvCxnSpPr>
            <a:endCxn id="412" idx="1"/>
          </p:cNvCxnSpPr>
          <p:nvPr/>
        </p:nvCxnSpPr>
        <p:spPr>
          <a:xfrm flipV="1">
            <a:off x="6000840" y="2150640"/>
            <a:ext cx="1286640" cy="6357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15 Conector recto de flecha"/>
          <p:cNvCxnSpPr/>
          <p:nvPr/>
        </p:nvCxnSpPr>
        <p:spPr>
          <a:xfrm flipH="1" flipV="1">
            <a:off x="1928520" y="1071360"/>
            <a:ext cx="3358080" cy="7149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4" name="17 Conector recto de flecha"/>
          <p:cNvCxnSpPr>
            <a:endCxn id="415" idx="1"/>
          </p:cNvCxnSpPr>
          <p:nvPr/>
        </p:nvCxnSpPr>
        <p:spPr>
          <a:xfrm flipV="1">
            <a:off x="5214600" y="3471120"/>
            <a:ext cx="1857960" cy="2437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6" name="19 CuadroTexto"/>
          <p:cNvSpPr/>
          <p:nvPr/>
        </p:nvSpPr>
        <p:spPr>
          <a:xfrm>
            <a:off x="7287840" y="1071720"/>
            <a:ext cx="22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17" name="20 CuadroTexto"/>
          <p:cNvGrpSpPr/>
          <p:nvPr/>
        </p:nvGrpSpPr>
        <p:grpSpPr>
          <a:xfrm>
            <a:off x="6931080" y="2998800"/>
            <a:ext cx="2309760" cy="1019160"/>
            <a:chOff x="6931080" y="2998800"/>
            <a:chExt cx="2309760" cy="1019160"/>
          </a:xfrm>
        </p:grpSpPr>
        <p:pic>
          <p:nvPicPr>
            <p:cNvPr id="418" name="20 CuadroTexto" descr=""/>
            <p:cNvPicPr/>
            <p:nvPr/>
          </p:nvPicPr>
          <p:blipFill>
            <a:blip r:embed="rId2"/>
            <a:stretch/>
          </p:blipFill>
          <p:spPr>
            <a:xfrm>
              <a:off x="6931080" y="2998800"/>
              <a:ext cx="23097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072200" y="3071880"/>
              <a:ext cx="2071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SAN VICENTE</a:t>
              </a:r>
              <a:r>
                <a:rPr b="0" lang="es-ES" sz="1200" spc="-1" strike="noStrike">
                  <a:solidFill>
                    <a:srgbClr val="000000"/>
                  </a:solidFill>
                  <a:latin typeface="Franklin Gothic Book"/>
                </a:rPr>
                <a:t>(2011)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44ESC-39 URBANAS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5-RURALES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20" name="22 CuadroTexto"/>
          <p:cNvGrpSpPr/>
          <p:nvPr/>
        </p:nvGrpSpPr>
        <p:grpSpPr>
          <a:xfrm>
            <a:off x="6997680" y="139680"/>
            <a:ext cx="2030400" cy="1513080"/>
            <a:chOff x="6997680" y="139680"/>
            <a:chExt cx="2030400" cy="1513080"/>
          </a:xfrm>
        </p:grpSpPr>
        <p:pic>
          <p:nvPicPr>
            <p:cNvPr id="421" name="22 CuadroTexto" descr=""/>
            <p:cNvPicPr/>
            <p:nvPr/>
          </p:nvPicPr>
          <p:blipFill>
            <a:blip r:embed="rId3"/>
            <a:stretch/>
          </p:blipFill>
          <p:spPr>
            <a:xfrm>
              <a:off x="6997680" y="139680"/>
              <a:ext cx="203040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7143840" y="214200"/>
              <a:ext cx="17859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BERNARDO DE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IRIGOYEN</a:t>
              </a:r>
              <a:r>
                <a:rPr b="0" lang="es-ES" sz="1200" spc="-1" strike="noStrike">
                  <a:solidFill>
                    <a:srgbClr val="000000"/>
                  </a:solidFill>
                  <a:latin typeface="Franklin Gothic Book"/>
                </a:rPr>
                <a:t>(2011)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16-ESC-13RURALES Y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3-URBANAS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23" name="24 CuadroTexto"/>
          <p:cNvGrpSpPr/>
          <p:nvPr/>
        </p:nvGrpSpPr>
        <p:grpSpPr>
          <a:xfrm>
            <a:off x="7143840" y="1573200"/>
            <a:ext cx="2023920" cy="1778040"/>
            <a:chOff x="7143840" y="1573200"/>
            <a:chExt cx="2023920" cy="1778040"/>
          </a:xfrm>
        </p:grpSpPr>
        <p:pic>
          <p:nvPicPr>
            <p:cNvPr id="424" name="24 CuadroTexto" descr=""/>
            <p:cNvPicPr/>
            <p:nvPr/>
          </p:nvPicPr>
          <p:blipFill>
            <a:blip r:embed="rId4"/>
            <a:stretch/>
          </p:blipFill>
          <p:spPr>
            <a:xfrm>
              <a:off x="7143840" y="1573200"/>
              <a:ext cx="202392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286760" y="1643040"/>
              <a:ext cx="1780920" cy="17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SAN PEDRO</a:t>
              </a:r>
              <a:r>
                <a:rPr b="0" lang="es-ES" sz="1200" spc="-1" strike="noStrike">
                  <a:solidFill>
                    <a:srgbClr val="000000"/>
                  </a:solidFill>
                  <a:latin typeface="Franklin Gothic Book"/>
                </a:rPr>
                <a:t>(2011)</a:t>
              </a:r>
              <a:endParaRPr b="0" lang="en-US" sz="12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38ESC-18-URBANAS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18-RURALES-2 CON 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POBLAC.INDIGENA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6" name="26 CuadroTexto"/>
          <p:cNvSpPr/>
          <p:nvPr/>
        </p:nvSpPr>
        <p:spPr>
          <a:xfrm>
            <a:off x="6929280" y="5143680"/>
            <a:ext cx="1814760" cy="73332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OBERA:(2009)-35-ESC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27 CuadroTexto"/>
          <p:cNvSpPr/>
          <p:nvPr/>
        </p:nvSpPr>
        <p:spPr>
          <a:xfrm>
            <a:off x="142920" y="2857680"/>
            <a:ext cx="2214360" cy="64260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UERTO RICO 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(2010)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17-ESCUELA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29 CuadroTexto"/>
          <p:cNvSpPr/>
          <p:nvPr/>
        </p:nvSpPr>
        <p:spPr>
          <a:xfrm>
            <a:off x="142920" y="3929040"/>
            <a:ext cx="1612800" cy="58140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OSADAS: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200874-ESCUELA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32 CuadroTexto"/>
          <p:cNvSpPr/>
          <p:nvPr/>
        </p:nvSpPr>
        <p:spPr>
          <a:xfrm>
            <a:off x="357120" y="857160"/>
            <a:ext cx="1500120" cy="79452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IGUAZU-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39-ESCUELA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29" name="40 Conector recto de flecha"/>
          <p:cNvCxnSpPr/>
          <p:nvPr/>
        </p:nvCxnSpPr>
        <p:spPr>
          <a:xfrm>
            <a:off x="4286160" y="4071960"/>
            <a:ext cx="2286720" cy="7149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0" name="41 CuadroTexto"/>
          <p:cNvSpPr/>
          <p:nvPr/>
        </p:nvSpPr>
        <p:spPr>
          <a:xfrm>
            <a:off x="6500880" y="4143240"/>
            <a:ext cx="2643120" cy="106884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ARISTOBULO DEL VAL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AÑO 2008: 34 ESCUELA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31" name="50 Conector recto de flecha"/>
          <p:cNvCxnSpPr>
            <a:endCxn id="426" idx="1"/>
          </p:cNvCxnSpPr>
          <p:nvPr/>
        </p:nvCxnSpPr>
        <p:spPr>
          <a:xfrm>
            <a:off x="3857760" y="4429080"/>
            <a:ext cx="3072240" cy="9770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2" name="62 CuadroTexto"/>
          <p:cNvSpPr/>
          <p:nvPr/>
        </p:nvSpPr>
        <p:spPr>
          <a:xfrm>
            <a:off x="6861600" y="6000840"/>
            <a:ext cx="1558440" cy="58140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OBERA: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(2010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58 escuelas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33" name="66 Conector recto de flecha"/>
          <p:cNvCxnSpPr/>
          <p:nvPr/>
        </p:nvCxnSpPr>
        <p:spPr>
          <a:xfrm flipH="1">
            <a:off x="1713960" y="4713840"/>
            <a:ext cx="857880" cy="5007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67 CuadroTexto"/>
          <p:cNvSpPr/>
          <p:nvPr/>
        </p:nvSpPr>
        <p:spPr>
          <a:xfrm>
            <a:off x="214200" y="5214960"/>
            <a:ext cx="2214720" cy="79452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b58b8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OSADAS: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SECUNDARIA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20-ESCUELAS-(2011)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1 Título" descr=""/>
          <p:cNvPicPr/>
          <p:nvPr/>
        </p:nvPicPr>
        <p:blipFill>
          <a:blip r:embed="rId1"/>
          <a:stretch/>
        </p:blipFill>
        <p:spPr>
          <a:xfrm>
            <a:off x="237960" y="182520"/>
            <a:ext cx="8541000" cy="1030320"/>
          </a:xfrm>
          <a:prstGeom prst="rect">
            <a:avLst/>
          </a:prstGeom>
          <a:ln w="0">
            <a:noFill/>
          </a:ln>
        </p:spPr>
      </p:pic>
      <p:pic>
        <p:nvPicPr>
          <p:cNvPr id="436" name="il_fi" descr="http://municipiosmisiones.com.ar/images/MapaPoliticoMunicipios-contorno.JPG"/>
          <p:cNvPicPr/>
          <p:nvPr/>
        </p:nvPicPr>
        <p:blipFill>
          <a:blip r:embed="rId2"/>
          <a:stretch/>
        </p:blipFill>
        <p:spPr>
          <a:xfrm>
            <a:off x="2124000" y="857160"/>
            <a:ext cx="4443480" cy="6000840"/>
          </a:xfrm>
          <a:prstGeom prst="rect">
            <a:avLst/>
          </a:prstGeom>
          <a:ln w="0">
            <a:noFill/>
          </a:ln>
        </p:spPr>
      </p:pic>
      <p:sp>
        <p:nvSpPr>
          <p:cNvPr id="437" name="4 CuadroTexto"/>
          <p:cNvSpPr/>
          <p:nvPr/>
        </p:nvSpPr>
        <p:spPr>
          <a:xfrm>
            <a:off x="4786200" y="1357200"/>
            <a:ext cx="571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38" name="7 Conector recto de flecha"/>
          <p:cNvCxnSpPr/>
          <p:nvPr/>
        </p:nvCxnSpPr>
        <p:spPr>
          <a:xfrm flipV="1">
            <a:off x="5285880" y="1142280"/>
            <a:ext cx="1001160" cy="2149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9" name="8 CuadroTexto"/>
          <p:cNvSpPr/>
          <p:nvPr/>
        </p:nvSpPr>
        <p:spPr>
          <a:xfrm>
            <a:off x="6232320" y="857160"/>
            <a:ext cx="2379960" cy="794520"/>
          </a:xfrm>
          <a:prstGeom prst="rect">
            <a:avLst/>
          </a:prstGeom>
          <a:solidFill>
            <a:srgbClr val="f0a22e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IGUAZU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CANT.ESTUD  .-CANT.DOC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10.887-             455 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40" name="10 Conector recto de flecha"/>
          <p:cNvCxnSpPr/>
          <p:nvPr/>
        </p:nvCxnSpPr>
        <p:spPr>
          <a:xfrm>
            <a:off x="4214880" y="4643280"/>
            <a:ext cx="1072080" cy="15012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41" name="11 CuadroTexto" descr=""/>
          <p:cNvPicPr/>
          <p:nvPr/>
        </p:nvPicPr>
        <p:blipFill>
          <a:blip r:embed="rId3"/>
          <a:stretch/>
        </p:blipFill>
        <p:spPr>
          <a:xfrm>
            <a:off x="5200560" y="5419800"/>
            <a:ext cx="3310200" cy="1315800"/>
          </a:xfrm>
          <a:prstGeom prst="rect">
            <a:avLst/>
          </a:prstGeom>
          <a:ln w="0">
            <a:noFill/>
          </a:ln>
        </p:spPr>
      </p:pic>
      <p:cxnSp>
        <p:nvCxnSpPr>
          <p:cNvPr id="442" name="13 Conector recto de flecha"/>
          <p:cNvCxnSpPr>
            <a:endCxn id="443" idx="1"/>
          </p:cNvCxnSpPr>
          <p:nvPr/>
        </p:nvCxnSpPr>
        <p:spPr>
          <a:xfrm>
            <a:off x="5143680" y="3643200"/>
            <a:ext cx="1643760" cy="11152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44" name="14 CuadroTexto"/>
          <p:cNvGrpSpPr/>
          <p:nvPr/>
        </p:nvGrpSpPr>
        <p:grpSpPr>
          <a:xfrm>
            <a:off x="6681960" y="4286160"/>
            <a:ext cx="2693880" cy="1079280"/>
            <a:chOff x="6681960" y="4286160"/>
            <a:chExt cx="2693880" cy="1079280"/>
          </a:xfrm>
        </p:grpSpPr>
        <p:pic>
          <p:nvPicPr>
            <p:cNvPr id="445" name="14 CuadroTexto" descr=""/>
            <p:cNvPicPr/>
            <p:nvPr/>
          </p:nvPicPr>
          <p:blipFill>
            <a:blip r:embed="rId4"/>
            <a:stretch/>
          </p:blipFill>
          <p:spPr>
            <a:xfrm>
              <a:off x="6681960" y="4286160"/>
              <a:ext cx="26938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786720" y="4357800"/>
              <a:ext cx="24890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Franklin Gothic Book"/>
                </a:rPr>
                <a:t>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Franklin Gothic Book"/>
                </a:rPr>
                <a:t>SAN VICENTE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CANT. ESTUD.CANT.DOCENTES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        </a:t>
              </a:r>
              <a:r>
                <a:rPr b="0" lang="es-ES" sz="1400" spc="-1" strike="noStrike">
                  <a:solidFill>
                    <a:srgbClr val="000000"/>
                  </a:solidFill>
                  <a:latin typeface="Franklin Gothic Book"/>
                </a:rPr>
                <a:t>7.233                       433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cxnSp>
        <p:nvCxnSpPr>
          <p:cNvPr id="447" name="16 Conector recto de flecha"/>
          <p:cNvCxnSpPr/>
          <p:nvPr/>
        </p:nvCxnSpPr>
        <p:spPr>
          <a:xfrm>
            <a:off x="6428880" y="2571840"/>
            <a:ext cx="358200" cy="21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8" name="17 CuadroTexto"/>
          <p:cNvSpPr/>
          <p:nvPr/>
        </p:nvSpPr>
        <p:spPr>
          <a:xfrm>
            <a:off x="6643800" y="1928880"/>
            <a:ext cx="2357280" cy="1281960"/>
          </a:xfrm>
          <a:prstGeom prst="rect">
            <a:avLst/>
          </a:prstGeom>
          <a:solidFill>
            <a:srgbClr val="a5644e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BERNARDO DE IRIGOYE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CAN.ESTUD.--- CANT. DOC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2.698                  159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49" name="19 Conector recto de flecha"/>
          <p:cNvCxnSpPr/>
          <p:nvPr/>
        </p:nvCxnSpPr>
        <p:spPr>
          <a:xfrm flipH="1" flipV="1">
            <a:off x="2214360" y="4071600"/>
            <a:ext cx="1643760" cy="10008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0" name="21 Conector recto de flecha"/>
          <p:cNvCxnSpPr/>
          <p:nvPr/>
        </p:nvCxnSpPr>
        <p:spPr>
          <a:xfrm flipH="1" flipV="1">
            <a:off x="2999880" y="2571120"/>
            <a:ext cx="1215360" cy="1215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23 Conector recto de flecha"/>
          <p:cNvCxnSpPr>
            <a:endCxn id="452" idx="3"/>
          </p:cNvCxnSpPr>
          <p:nvPr/>
        </p:nvCxnSpPr>
        <p:spPr>
          <a:xfrm flipH="1" flipV="1">
            <a:off x="2214000" y="4900320"/>
            <a:ext cx="214920" cy="1720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24 CuadroTexto"/>
          <p:cNvSpPr/>
          <p:nvPr/>
        </p:nvSpPr>
        <p:spPr>
          <a:xfrm>
            <a:off x="826920" y="2197080"/>
            <a:ext cx="2143440" cy="1007640"/>
          </a:xfrm>
          <a:prstGeom prst="rect">
            <a:avLst/>
          </a:prstGeom>
          <a:gradFill rotWithShape="0">
            <a:gsLst>
              <a:gs pos="0">
                <a:srgbClr val="f2d9d4"/>
              </a:gs>
              <a:gs pos="100000">
                <a:srgbClr val="d47962"/>
              </a:gs>
            </a:gsLst>
            <a:lin ang="5400000"/>
          </a:gradFill>
          <a:ln w="10080">
            <a:solidFill>
              <a:srgbClr val="a5644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UERTO RIC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CANT. ESTUD.- CANT.DOC.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Franklin Gothic Book"/>
              </a:rPr>
              <a:t>2.121                   11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4" name="25 CuadroTexto" descr=""/>
          <p:cNvPicPr/>
          <p:nvPr/>
        </p:nvPicPr>
        <p:blipFill>
          <a:blip r:embed="rId5"/>
          <a:stretch/>
        </p:blipFill>
        <p:spPr>
          <a:xfrm>
            <a:off x="128520" y="3273480"/>
            <a:ext cx="2711520" cy="1225440"/>
          </a:xfrm>
          <a:prstGeom prst="rect">
            <a:avLst/>
          </a:prstGeom>
          <a:ln w="0">
            <a:noFill/>
          </a:ln>
        </p:spPr>
      </p:pic>
      <p:pic>
        <p:nvPicPr>
          <p:cNvPr id="455" name="28 CuadroTexto" descr=""/>
          <p:cNvPicPr/>
          <p:nvPr/>
        </p:nvPicPr>
        <p:blipFill>
          <a:blip r:embed="rId6"/>
          <a:stretch/>
        </p:blipFill>
        <p:spPr>
          <a:xfrm>
            <a:off x="60480" y="4419720"/>
            <a:ext cx="2232000" cy="1011240"/>
          </a:xfrm>
          <a:prstGeom prst="rect">
            <a:avLst/>
          </a:prstGeom>
          <a:ln w="0">
            <a:noFill/>
          </a:ln>
        </p:spPr>
      </p:pic>
      <p:cxnSp>
        <p:nvCxnSpPr>
          <p:cNvPr id="456" name="32 Conector recto de flecha"/>
          <p:cNvCxnSpPr/>
          <p:nvPr/>
        </p:nvCxnSpPr>
        <p:spPr>
          <a:xfrm>
            <a:off x="5715000" y="3357720"/>
            <a:ext cx="1000800" cy="1432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57" name="33 CuadroTexto"/>
          <p:cNvGrpSpPr/>
          <p:nvPr/>
        </p:nvGrpSpPr>
        <p:grpSpPr>
          <a:xfrm>
            <a:off x="6711840" y="3279600"/>
            <a:ext cx="2298960" cy="1014120"/>
            <a:chOff x="6711840" y="3279600"/>
            <a:chExt cx="2298960" cy="1014120"/>
          </a:xfrm>
        </p:grpSpPr>
        <p:pic>
          <p:nvPicPr>
            <p:cNvPr id="458" name="33 CuadroTexto" descr=""/>
            <p:cNvPicPr/>
            <p:nvPr/>
          </p:nvPicPr>
          <p:blipFill>
            <a:blip r:embed="rId7"/>
            <a:stretch/>
          </p:blipFill>
          <p:spPr>
            <a:xfrm>
              <a:off x="6711840" y="3279600"/>
              <a:ext cx="229896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6715080" y="3286080"/>
              <a:ext cx="2286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Franklin Gothic Medium"/>
                </a:rPr>
                <a:t>SAN PEDRO: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Medium"/>
                </a:rPr>
                <a:t>CANT.ESTUD.-CANT DOC.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Franklin Gothic Medium"/>
                </a:rPr>
                <a:t>     </a:t>
              </a:r>
              <a:r>
                <a:rPr b="0" lang="es-ES" sz="1400" spc="-1" strike="noStrike">
                  <a:solidFill>
                    <a:srgbClr val="000000"/>
                  </a:solidFill>
                  <a:latin typeface="Franklin Gothic Medium"/>
                </a:rPr>
                <a:t>4.790                    323</a:t>
              </a:r>
              <a:endParaRPr b="0" lang="en-US" sz="1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cxnSp>
        <p:nvCxnSpPr>
          <p:cNvPr id="460" name="36 Conector recto de flecha"/>
          <p:cNvCxnSpPr/>
          <p:nvPr/>
        </p:nvCxnSpPr>
        <p:spPr>
          <a:xfrm flipH="1">
            <a:off x="1714320" y="5071680"/>
            <a:ext cx="714960" cy="10724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1" name="37 CuadroTexto"/>
          <p:cNvSpPr/>
          <p:nvPr/>
        </p:nvSpPr>
        <p:spPr>
          <a:xfrm>
            <a:off x="214200" y="6000840"/>
            <a:ext cx="2357640" cy="733320"/>
          </a:xfrm>
          <a:prstGeom prst="rect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POSADAS:</a:t>
            </a:r>
            <a:r>
              <a:rPr b="0" lang="es-ES" sz="1200" spc="-1" strike="noStrike">
                <a:solidFill>
                  <a:srgbClr val="000000"/>
                </a:solidFill>
                <a:latin typeface="Franklin Gothic Book"/>
              </a:rPr>
              <a:t> SECUNDARIA-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Franklin Gothic Book"/>
              </a:rPr>
              <a:t>CANT.ESTUD.--  CANT.DOC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es-ES" sz="1200" spc="-1" strike="noStrike">
                <a:solidFill>
                  <a:srgbClr val="000000"/>
                </a:solidFill>
                <a:latin typeface="Franklin Gothic Book"/>
              </a:rPr>
              <a:t>6.200                    1.200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1 Título" descr=""/>
          <p:cNvPicPr/>
          <p:nvPr/>
        </p:nvPicPr>
        <p:blipFill>
          <a:blip r:embed="rId1"/>
          <a:stretch/>
        </p:blipFill>
        <p:spPr>
          <a:xfrm>
            <a:off x="596880" y="438120"/>
            <a:ext cx="7956720" cy="101916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713880" y="1285920"/>
            <a:ext cx="785844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714240" y="1397160"/>
          <a:ext cx="7858440" cy="5054400"/>
        </p:xfrm>
        <a:graphic>
          <a:graphicData uri="http://schemas.openxmlformats.org/drawingml/2006/table">
            <a:tbl>
              <a:tblPr/>
              <a:tblGrid>
                <a:gridCol w="785880"/>
                <a:gridCol w="1285920"/>
                <a:gridCol w="1000080"/>
                <a:gridCol w="1143000"/>
                <a:gridCol w="1000080"/>
                <a:gridCol w="1500480"/>
                <a:gridCol w="1143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LO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TIDAD DE ESCUE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TIDAD DE ESTUDI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TIDAD DE DOC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TIDAD DE ESC. CON APLIC. COMPLE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SC. QUE  ABAND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istòbulo del V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s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.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2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guaz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er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er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.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uerto 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an Vic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lic. 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inaliz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an Ped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lic. Au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 finali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6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1 Título" descr=""/>
          <p:cNvPicPr/>
          <p:nvPr/>
        </p:nvPicPr>
        <p:blipFill>
          <a:blip r:embed="rId1"/>
          <a:stretch/>
        </p:blipFill>
        <p:spPr>
          <a:xfrm>
            <a:off x="212760" y="414360"/>
            <a:ext cx="887076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"/>
          <p:cNvGraphicFramePr/>
          <p:nvPr/>
        </p:nvGraphicFramePr>
        <p:xfrm>
          <a:off x="304920" y="1554120"/>
          <a:ext cx="8686800" cy="412452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8080"/>
                <a:gridCol w="1737000"/>
              </a:tblGrid>
              <a:tr h="11912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I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LOC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TIDAD DE ESCUE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TIDAD DE ESTUDI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TIDAD DE DOC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 rowSpan="3"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AN VIC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4 (5 urbanas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9 rura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ERNARDO DE IRIGOY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6 (3 urbanas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 rura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AN PED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8 (18 urbanas, 18 rurales) con población indíg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ECUND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s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.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1 Título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68" name="pview" descr="http://pics.sonicocnt.com/photos/14/AG/DA/3487853/1932681/bg_15156304.jpg"/>
          <p:cNvPicPr/>
          <p:nvPr/>
        </p:nvPicPr>
        <p:blipFill>
          <a:blip r:embed="rId2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1 Título" descr=""/>
          <p:cNvPicPr/>
          <p:nvPr/>
        </p:nvPicPr>
        <p:blipFill>
          <a:blip r:embed="rId1"/>
          <a:stretch/>
        </p:blipFill>
        <p:spPr>
          <a:xfrm>
            <a:off x="341280" y="189000"/>
            <a:ext cx="8510760" cy="1189080"/>
          </a:xfrm>
          <a:prstGeom prst="rect">
            <a:avLst/>
          </a:prstGeom>
          <a:ln w="0">
            <a:noFill/>
          </a:ln>
        </p:spPr>
      </p:pic>
      <p:pic>
        <p:nvPicPr>
          <p:cNvPr id="470" name="3 Marcador de contenido" descr=""/>
          <p:cNvPicPr/>
          <p:nvPr/>
        </p:nvPicPr>
        <p:blipFill>
          <a:blip r:embed="rId2"/>
          <a:stretch/>
        </p:blipFill>
        <p:spPr>
          <a:xfrm>
            <a:off x="450720" y="1262160"/>
            <a:ext cx="824256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1 Título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72" name="pview" descr="http://pics.sonicocnt.com/photos/14/AG/DA/3487853/1932681/bg_15156297.jpg"/>
          <p:cNvPicPr/>
          <p:nvPr/>
        </p:nvPicPr>
        <p:blipFill>
          <a:blip r:embed="rId2"/>
          <a:stretch/>
        </p:blipFill>
        <p:spPr>
          <a:xfrm>
            <a:off x="3225960" y="1554120"/>
            <a:ext cx="2844720" cy="4525920"/>
          </a:xfrm>
          <a:prstGeom prst="rect">
            <a:avLst/>
          </a:prstGeom>
          <a:ln w="0">
            <a:noFill/>
          </a:ln>
        </p:spPr>
      </p:pic>
      <p:cxnSp>
        <p:nvCxnSpPr>
          <p:cNvPr id="473" name="5 Conector recto de flecha"/>
          <p:cNvCxnSpPr/>
          <p:nvPr/>
        </p:nvCxnSpPr>
        <p:spPr>
          <a:xfrm flipH="1" flipV="1">
            <a:off x="2214360" y="3642480"/>
            <a:ext cx="142920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4" name="6 CuadroTexto"/>
          <p:cNvSpPr/>
          <p:nvPr/>
        </p:nvSpPr>
        <p:spPr>
          <a:xfrm>
            <a:off x="357120" y="3500280"/>
            <a:ext cx="1898640" cy="642600"/>
          </a:xfrm>
          <a:prstGeom prst="rect">
            <a:avLst/>
          </a:prstGeom>
          <a:gradFill rotWithShape="0">
            <a:gsLst>
              <a:gs pos="0">
                <a:srgbClr val="f3e0db"/>
              </a:gs>
              <a:gs pos="100000">
                <a:srgbClr val="d89787"/>
              </a:gs>
            </a:gsLst>
            <a:lin ang="5400000"/>
          </a:gradFill>
          <a:ln w="10080">
            <a:solidFill>
              <a:srgbClr val="00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YOLANDA GOMEZ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475" name="8 Conector recto de flecha"/>
          <p:cNvCxnSpPr/>
          <p:nvPr/>
        </p:nvCxnSpPr>
        <p:spPr>
          <a:xfrm>
            <a:off x="5785920" y="3785760"/>
            <a:ext cx="107244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6" name="9 CuadroTexto"/>
          <p:cNvSpPr/>
          <p:nvPr/>
        </p:nvSpPr>
        <p:spPr>
          <a:xfrm>
            <a:off x="6929280" y="3643200"/>
            <a:ext cx="2071800" cy="64260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ranklin Gothic Book"/>
              </a:rPr>
              <a:t>LUCIA NAZARENU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1 Título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78" name="pview" descr="http://pics.sonicocnt.com/photos/14/AG/DA/3487853/1932681/bg_15156298.jpg"/>
          <p:cNvPicPr/>
          <p:nvPr/>
        </p:nvPicPr>
        <p:blipFill>
          <a:blip r:embed="rId2"/>
          <a:stretch/>
        </p:blipFill>
        <p:spPr>
          <a:xfrm>
            <a:off x="830160" y="1557360"/>
            <a:ext cx="3167280" cy="4525920"/>
          </a:xfrm>
          <a:prstGeom prst="rect">
            <a:avLst/>
          </a:prstGeom>
          <a:ln w="0">
            <a:noFill/>
          </a:ln>
        </p:spPr>
      </p:pic>
      <p:pic>
        <p:nvPicPr>
          <p:cNvPr id="479" name="Imagen 7" descr="F:\DCIM\100GEDSC\GEDC1555.JPG"/>
          <p:cNvPicPr/>
          <p:nvPr/>
        </p:nvPicPr>
        <p:blipFill>
          <a:blip r:embed="rId3"/>
          <a:srcRect l="10486" t="3317" r="0" b="0"/>
          <a:stretch/>
        </p:blipFill>
        <p:spPr>
          <a:xfrm>
            <a:off x="4648320" y="1700280"/>
            <a:ext cx="331128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20:44:22Z</dcterms:created>
  <dc:creator>Usuario</dc:creator>
  <dc:description/>
  <dc:language>en-US</dc:language>
  <cp:lastModifiedBy>andres</cp:lastModifiedBy>
  <dcterms:modified xsi:type="dcterms:W3CDTF">2012-06-08T18:03:53Z</dcterms:modified>
  <cp:revision>107</cp:revision>
  <dc:subject/>
  <dc:title>APLICACIÓN DEL IACE EN ESCUELA PRIMARIAS DE LA PROVINCIA DE MISIONES</dc:title>
</cp:coreProperties>
</file>