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6.png" ContentType="image/png"/>
  <Override PartName="/ppt/media/image25.jpeg" ContentType="image/jpeg"/>
  <Override PartName="/ppt/media/image22.jpeg" ContentType="image/jpeg"/>
  <Override PartName="/ppt/media/image9.png" ContentType="image/png"/>
  <Override PartName="/ppt/media/image21.png" ContentType="image/png"/>
  <Override PartName="/ppt/media/image18.jpeg" ContentType="image/jpeg"/>
  <Override PartName="/ppt/media/image5.png" ContentType="image/png"/>
  <Override PartName="/ppt/media/image29.jpeg" ContentType="image/jpeg"/>
  <Override PartName="/ppt/media/image6.jpeg" ContentType="image/jpeg"/>
  <Override PartName="/ppt/media/image35.jpeg" ContentType="image/jpeg"/>
  <Override PartName="/ppt/media/image10.png" ContentType="image/png"/>
  <Override PartName="/ppt/media/image8.png" ContentType="image/png"/>
  <Override PartName="/ppt/media/image13.png" ContentType="image/png"/>
  <Override PartName="/ppt/media/image19.jpeg" ContentType="image/jpeg"/>
  <Override PartName="/ppt/media/image11.png" ContentType="image/png"/>
  <Override PartName="/ppt/media/image28.png" ContentType="image/png"/>
  <Override PartName="/ppt/media/image7.jpeg" ContentType="image/jpeg"/>
  <Override PartName="/ppt/media/image34.jpeg" ContentType="image/jpeg"/>
  <Override PartName="/ppt/media/image20.jpeg" ContentType="image/jpeg"/>
  <Override PartName="/ppt/media/image31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2.wmf" ContentType="image/x-wmf"/>
  <Override PartName="/ppt/media/image12.png" ContentType="image/png"/>
  <Override PartName="/ppt/media/image23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23FB7-B158-47C8-8259-3833E38D736C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8D44A-A0EB-451B-84B5-ABDB1201268E}" type="slidenum">
              <a:rPr b="0" lang="es-A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28A9-4337-43A6-8FED-02DA9F7C5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48ED-EFED-400D-9D76-BD29BF018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290D-C153-4C18-994D-C11179CC7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54C9-0618-42FE-B3CD-89CA46841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05AB5-413D-4CA8-9430-26F990BAB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40A82-1198-452D-B152-39B5EFA8B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32F23-8D6B-42D4-B9AD-340A24C14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F6507-041E-4C3C-B7C3-7E1D64857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D36A6-7C85-4BC7-A798-28647651C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94E9E-329F-48CE-915D-402059816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F9AC1-B083-48C1-AEF0-9CC42E4C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5ADE-9E31-4A53-9007-35AD583DB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794C5-D4C3-493B-94C5-234A660B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3A965-8956-458F-917C-D845C2CD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29EDD-5D52-4661-9476-D09A76FBB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ACABB-FD78-4332-86ED-40E9C25E0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23095-B4C3-4B37-ADFE-093A073C7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DB8CC-16A9-4D6D-A927-53A87D603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B7A3D-EC41-44F7-9219-22218CFFB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C4F3D-B9B8-489B-833E-97BFE65A9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95033-FE77-4971-9155-F53A21906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C19AD-1942-4791-950F-1F1B557B8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C261-69B8-400D-8CDA-AC923933B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5444B-4903-45BC-ABD9-693A68FC1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5D4EC-51CA-4F0A-A8F4-E00B2F6C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B7307-6A70-4B38-8C0A-90CC3CE7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38D7C-C968-4E03-906E-333BF4F5B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27ADD-092B-4A3C-A284-8720F4C88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D7344-0A70-457D-8470-3DDE0A8AE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19129-95D2-465D-B589-01F6C991F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C5587-A019-4045-9B46-AC8D7E75D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CBCFF-0207-4037-8033-EA82A4BF3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6F271-21D9-48E1-9DBE-2D1A70BB1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5F17-76E7-4362-8B8F-D2DC67ED8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1549D-7016-441C-9F92-1BD033528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D8BD3-F55D-47DF-AEA6-1EBB7DFCC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05C70-E16B-4860-AA6C-C188420F0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00E86-77AF-4006-A053-614566BA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688E8-79B5-4B14-A169-B1D64808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0A466-546D-4BC5-80A9-2B179BB5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9AB39-4CE8-4A4C-9A6E-D405B0E20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8C525-BB65-4D4E-8ED8-CA3B568B6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3F97A-BB47-4ABE-92A9-0164D13D0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5DAF9-ED7C-48AC-B1B7-09534750B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19A2-164F-4A71-8110-A245254D5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4DD26-6079-401E-A451-5C5066296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81296-6EAF-4F60-9C79-678C4CE2C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E3F87-EF16-4869-9326-BFBE0B372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EA4A9-2BDA-4921-86F1-2BDCCA795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31402-7521-4C4A-AC3E-945773311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475B9-2285-4C62-81DC-F51189CD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B3447-B01F-4FC9-865F-289BA5C3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6AD69-9A4F-4666-96BA-3270C20B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27655-794E-4265-AA15-4DB73491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F7024-77FD-4858-9CF5-21ED8C3F9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77AD-63A1-43F6-B6DD-6851C0EFB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3278F-E77A-478E-8CD8-FD5FB3818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00177-C776-4B19-9E1D-048CA65F1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3FAEF-E86E-4307-AF58-67799ECD9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78E47-9F75-4267-876F-011352239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7CCACB-0C31-4C03-9355-8DF41B78F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43C11-1D9A-4B9D-ACFB-4726F01C8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D2F98-DCF0-4411-9B19-86ECBF60B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5875B-54BA-4CB1-80A3-4A471D48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A578A-53A5-4A18-A430-F3244309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D52F0-39D0-46D3-9489-168EAC37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A73B-C3B9-451E-BB09-5A7AC803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A3A3B-8EDC-43DF-9FB9-BCC24FBE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AA6FF3-D6A3-4197-973E-32D496BA3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40F1F-0BF2-483E-9417-CDDE89675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5DDB0D-73F0-4EA3-B257-9039F065F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A9A04B-4504-49E5-94CE-6834922A6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951E4-9A04-44FA-B1A2-6CA91450C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18417-C8E0-41ED-9781-CCAC91D52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AF1246-81DB-42A5-826F-52D812C88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863EB8-0D8B-41BC-8488-4FE41369E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44959E-1327-4F84-A84B-D9637212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C3C1-D133-4943-A078-DA1515A2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EF3FD-82C7-416C-AE8E-D330D621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CE97E-F666-4EB2-A315-A3685B13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1FAC78-835A-45D6-B4B0-10C0180F2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694D6A-5D61-42D6-9B56-1D12D631B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18DB4-AD6D-41FE-8544-C41D2A1B1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36274-7A1D-48A9-A6BF-0DD7BEA4C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73678E-757E-4ECF-8BE1-7DF0F0E8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976C7A-906A-430C-9B46-4E420D9E3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997010-C828-4821-A93F-784A9238D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DE36B-2CF1-4F9C-AC31-945000FB1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41DC-16F1-4B49-AA80-825E3C66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DD1B65-8EFC-4E8D-AD87-9AA45F3D8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E19A9E-E77A-4BF6-A1F1-AF488E07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B29D1C-0AF3-4667-B201-B3A2E3C4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F60CC4-9FD0-4BFB-824C-07FC38E7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ABF06-A462-470C-9B72-609CE9302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A84808-8CED-4F68-AB7A-35FC64393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0FCC8B-630E-4EB1-9AA7-B41EEA520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4A4DB-EF05-4BAB-922D-FC6F9AD569C1}" type="slidenum">
              <a:rPr b="0" lang="es-AR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7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18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19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20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23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24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25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26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27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7691-B2FF-40B4-98CC-554EE4638FAE}" type="slidenum">
              <a:rPr b="0" lang="es-AR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17 Forma libre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18 Forma libre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19 Forma libre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20 Forma libre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23 Forma libre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24 Forma libre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25 Forma libre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26 Forma libre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27 Forma libre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28 Forma libre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29 Forma libre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30 Forma libre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31 Forma libre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32 Forma libre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33 Forma libre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34 Rectángulo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35 Rectángulo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36 Rectángulo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37 Rectángulo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38 Rectángulo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39 Rectángulo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2B307-0BCC-4D41-AEDF-6865935C7255}" type="slidenum">
              <a:rPr b="0" lang="es-AR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E0080-3E4A-4052-97C3-FDE3E6955D72}" type="slidenum">
              <a:rPr b="0" lang="es-AR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17 Rectángulo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18 Rectángulo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19 Rectángulo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20 Rectángulo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23 Rectángulo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24 Rectángulo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25 Rectángulo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26 Rectángulo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27 Rectángulo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28 Rectángulo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F929-EF64-485F-9533-6D39F4638AB6}" type="slidenum">
              <a:rPr b="0" lang="es-AR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C8EB8-0FED-4607-B761-053961B7B05E}" type="slidenum">
              <a:rPr b="0" lang="es-AR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17 Rectángulo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18 Conector recto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19 Grupo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316" name="20 Conector recto"/>
            <p:cNvSpPr/>
            <p:nvPr/>
          </p:nvSpPr>
          <p:spPr>
            <a:xfrm>
              <a:off x="8582400" y="1217520"/>
              <a:ext cx="63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23 Conector recto"/>
            <p:cNvSpPr/>
            <p:nvPr/>
          </p:nvSpPr>
          <p:spPr>
            <a:xfrm>
              <a:off x="8516880" y="1282680"/>
              <a:ext cx="889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24 Conector recto"/>
            <p:cNvSpPr/>
            <p:nvPr/>
          </p:nvSpPr>
          <p:spPr>
            <a:xfrm flipV="1">
              <a:off x="8582400" y="1282320"/>
              <a:ext cx="63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25 Grupo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26 Conector recto"/>
            <p:cNvSpPr/>
            <p:nvPr/>
          </p:nvSpPr>
          <p:spPr>
            <a:xfrm>
              <a:off x="8735400" y="1370160"/>
              <a:ext cx="63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27 Conector recto"/>
            <p:cNvSpPr/>
            <p:nvPr/>
          </p:nvSpPr>
          <p:spPr>
            <a:xfrm>
              <a:off x="8669160" y="1435320"/>
              <a:ext cx="892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28 Conector recto"/>
            <p:cNvSpPr/>
            <p:nvPr/>
          </p:nvSpPr>
          <p:spPr>
            <a:xfrm flipV="1">
              <a:off x="8735400" y="1434960"/>
              <a:ext cx="63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29 Grupo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324" name="30 Conector recto"/>
            <p:cNvSpPr/>
            <p:nvPr/>
          </p:nvSpPr>
          <p:spPr>
            <a:xfrm>
              <a:off x="8387280" y="1473120"/>
              <a:ext cx="63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31 Conector recto"/>
            <p:cNvSpPr/>
            <p:nvPr/>
          </p:nvSpPr>
          <p:spPr>
            <a:xfrm>
              <a:off x="8321760" y="1538280"/>
              <a:ext cx="889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32 Conector recto"/>
            <p:cNvSpPr/>
            <p:nvPr/>
          </p:nvSpPr>
          <p:spPr>
            <a:xfrm flipV="1">
              <a:off x="8387280" y="1537920"/>
              <a:ext cx="63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26BDA-3A0B-4E18-B7E9-5D247EF97D37}" type="slidenum">
              <a:rPr b="0" lang="es-AR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2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3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4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AAFDF-9E01-4E9D-BF2A-71080C81A9DA}" type="slidenum">
              <a:rPr b="0" lang="es-E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3 Título" descr=""/>
          <p:cNvPicPr/>
          <p:nvPr/>
        </p:nvPicPr>
        <p:blipFill>
          <a:blip r:embed="rId1"/>
          <a:stretch/>
        </p:blipFill>
        <p:spPr>
          <a:xfrm>
            <a:off x="749160" y="1311120"/>
            <a:ext cx="7645680" cy="310212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41440" y="4005000"/>
            <a:ext cx="8061120" cy="18716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800" spc="-1" strike="noStrike">
                <a:solidFill>
                  <a:srgbClr val="ffffff"/>
                </a:solidFill>
                <a:latin typeface="Arial Black"/>
              </a:rPr>
              <a:t>IACE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800" spc="-1" strike="noStrike">
                <a:solidFill>
                  <a:srgbClr val="ffffff"/>
                </a:solidFill>
                <a:latin typeface="Arial Black"/>
              </a:rPr>
              <a:t>UNICEF - CEADEL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8" name="Object 4"/>
          <p:cNvGraphicFramePr/>
          <p:nvPr/>
        </p:nvGraphicFramePr>
        <p:xfrm>
          <a:off x="5724360" y="5661000"/>
          <a:ext cx="571680" cy="466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9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24360" y="5661000"/>
                    <a:ext cx="571680" cy="4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0" name="Rectangle 6"/>
          <p:cNvSpPr/>
          <p:nvPr/>
        </p:nvSpPr>
        <p:spPr>
          <a:xfrm>
            <a:off x="5651640" y="6009120"/>
            <a:ext cx="914400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C E A D E 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Centro de Apoyo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al Desarrollo Loca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Picture 7" descr="Unicef"/>
          <p:cNvPicPr/>
          <p:nvPr/>
        </p:nvPicPr>
        <p:blipFill>
          <a:blip r:embed="rId4">
            <a:grayscl/>
          </a:blip>
          <a:stretch/>
        </p:blipFill>
        <p:spPr>
          <a:xfrm>
            <a:off x="2266920" y="5805360"/>
            <a:ext cx="1389240" cy="360360"/>
          </a:xfrm>
          <a:prstGeom prst="rect">
            <a:avLst/>
          </a:prstGeom>
          <a:ln w="0">
            <a:noFill/>
          </a:ln>
        </p:spPr>
      </p:pic>
      <p:pic>
        <p:nvPicPr>
          <p:cNvPr id="432" name="Patricia Sosa - Aprender a Volar.mp3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600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" fill="hold"/>
                                        <p:tgtEl>
                                          <p:spTgt spid="4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2139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c1eeff"/>
                </a:solidFill>
                <a:latin typeface="Consolas"/>
              </a:rPr>
              <a:t>ÍNDICES PROVINCIALES 2009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60" name="1 Gráfico" descr=""/>
          <p:cNvPicPr/>
          <p:nvPr/>
        </p:nvPicPr>
        <p:blipFill>
          <a:blip r:embed="rId1"/>
          <a:stretch/>
        </p:blipFill>
        <p:spPr>
          <a:xfrm>
            <a:off x="895320" y="1779480"/>
            <a:ext cx="7797960" cy="50850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2139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c1eeff"/>
                </a:solidFill>
                <a:latin typeface="Consolas"/>
              </a:rPr>
              <a:t>INDICES PROVINCIALES 2010-11</a:t>
            </a:r>
            <a:br>
              <a:rPr sz="3600"/>
            </a:b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62" name="6 Gráfico" descr=""/>
          <p:cNvPicPr/>
          <p:nvPr/>
        </p:nvPicPr>
        <p:blipFill>
          <a:blip r:embed="rId1"/>
          <a:stretch/>
        </p:blipFill>
        <p:spPr>
          <a:xfrm>
            <a:off x="907920" y="1779480"/>
            <a:ext cx="7785360" cy="458496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3 Imagen" descr="62929_1433604241356_1270414774_31010086_5260861_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155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" dur="1155" fill="hold"/>
                                        <p:tgtEl>
                                          <p:spTgt spid="4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9" dur="1155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1" dur="1155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3 Imagen" descr="66364_1469818586692_1270414774_31078033_43611_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5" name="2 Rectángulo" descr=""/>
          <p:cNvPicPr/>
          <p:nvPr/>
        </p:nvPicPr>
        <p:blipFill>
          <a:blip r:embed="rId2"/>
          <a:stretch/>
        </p:blipFill>
        <p:spPr>
          <a:xfrm>
            <a:off x="-146160" y="-96840"/>
            <a:ext cx="6016680" cy="197496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67" name="3 Marcador de contenido" descr="44371_1406025671909_1270414774_30954773_7404355_n.jpg"/>
          <p:cNvPicPr/>
          <p:nvPr/>
        </p:nvPicPr>
        <p:blipFill>
          <a:blip r:embed="rId1"/>
          <a:stretch/>
        </p:blipFill>
        <p:spPr>
          <a:xfrm>
            <a:off x="3703680" y="3247920"/>
            <a:ext cx="2193840" cy="1644840"/>
          </a:xfrm>
          <a:prstGeom prst="rect">
            <a:avLst/>
          </a:prstGeom>
          <a:ln w="0">
            <a:noFill/>
          </a:ln>
        </p:spPr>
      </p:pic>
      <p:pic>
        <p:nvPicPr>
          <p:cNvPr id="468" name="3 Imagen" descr="44371_1406025671909_1270414774_30954773_7404355_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9" name="4 CuadroTexto"/>
          <p:cNvSpPr/>
          <p:nvPr/>
        </p:nvSpPr>
        <p:spPr>
          <a:xfrm>
            <a:off x="250920" y="40464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Docentes y Equipo aplicando I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8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71" name="3 Marcador de contenido" descr="316746_2207375296527_1011769559_32065190_1390680514_n 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914400" y="1784520"/>
            <a:ext cx="7772400" cy="4572000"/>
          </a:xfrm>
          <a:prstGeom prst="rect">
            <a:avLst/>
          </a:prstGeom>
          <a:ln w="0">
            <a:noFill/>
          </a:ln>
        </p:spPr>
      </p:pic>
      <p:pic>
        <p:nvPicPr>
          <p:cNvPr id="474" name="3 Imagen" descr="44371_1406025831913_1270414774_30954776_1306328_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5" name="4 CuadroTexto"/>
          <p:cNvSpPr/>
          <p:nvPr/>
        </p:nvSpPr>
        <p:spPr>
          <a:xfrm>
            <a:off x="395280" y="0"/>
            <a:ext cx="69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 Black"/>
              </a:rPr>
              <a:t>PARTE</a:t>
            </a:r>
            <a:r>
              <a:rPr b="0" lang="es-AR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AR" sz="2000" spc="-1" strike="noStrike">
                <a:solidFill>
                  <a:srgbClr val="000000"/>
                </a:solidFill>
                <a:latin typeface="Arial Black"/>
              </a:rPr>
              <a:t>DEL EQUIPO Y SUPERVISOR ANIBAL SENG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77" name="Picture 3" descr="C:\Users\calc\Desktop\FOTOS IACE\FOTOS LAS PALMAS\100_0007.jpg"/>
          <p:cNvPicPr/>
          <p:nvPr/>
        </p:nvPicPr>
        <p:blipFill>
          <a:blip r:embed="rId1"/>
          <a:stretch/>
        </p:blipFill>
        <p:spPr>
          <a:xfrm>
            <a:off x="395280" y="0"/>
            <a:ext cx="8748720" cy="6862680"/>
          </a:xfrm>
          <a:prstGeom prst="rect">
            <a:avLst/>
          </a:prstGeom>
          <a:ln w="0">
            <a:noFill/>
          </a:ln>
        </p:spPr>
      </p:pic>
      <p:sp>
        <p:nvSpPr>
          <p:cNvPr id="478" name="Text Box 7"/>
          <p:cNvSpPr/>
          <p:nvPr/>
        </p:nvSpPr>
        <p:spPr>
          <a:xfrm>
            <a:off x="684360" y="0"/>
            <a:ext cx="81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ordinadora Jurisdiccional : Dora Góme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1eeff"/>
                </a:solidFill>
                <a:latin typeface="Arial"/>
                <a:ea typeface="Arial"/>
              </a:rPr>
              <a:t>PROBLEMAS PRIORIZADOS Y ACTIVIDADES JERARQUIZADAS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80" name="4 Marcador de contenido" descr="en el aula.jpg"/>
          <p:cNvPicPr/>
          <p:nvPr/>
        </p:nvPicPr>
        <p:blipFill>
          <a:blip r:embed="rId1"/>
          <a:stretch/>
        </p:blipFill>
        <p:spPr>
          <a:xfrm>
            <a:off x="1012680" y="1609560"/>
            <a:ext cx="7159680" cy="477216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7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82" name="3 Marcador de contenido" descr="clase sum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3" name="5 CuadroTexto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1 DIMENSIÓN: Logros y Trayectoria de los Alumn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80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706320" y="1351080"/>
            <a:ext cx="571824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 Black"/>
                <a:ea typeface="Arial"/>
              </a:rPr>
              <a:t>ENCUENTRO INTERPROVINCIAL: </a:t>
            </a:r>
            <a:br>
              <a:rPr sz="2400"/>
            </a:br>
            <a:r>
              <a:rPr b="0" lang="es-AR" sz="2400" spc="-1" strike="noStrike">
                <a:solidFill>
                  <a:srgbClr val="ffffff"/>
                </a:solidFill>
                <a:latin typeface="Arial Black"/>
                <a:ea typeface="Arial"/>
              </a:rPr>
              <a:t>POLÍTICAS DE AUTOEVALUACIÓN INSTITUCIONAL PARA LA MEJORA DE LA CALIDAD  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INCIDENCIA REAL Y POTENCIAL DEL IACE EN LOS TRADICIONALES INDICADORES EDUCATIVOS</a:t>
            </a:r>
            <a:br>
              <a:rPr sz="2400"/>
            </a:br>
            <a:br>
              <a:rPr sz="2400"/>
            </a:br>
            <a:r>
              <a:rPr b="0" lang="es-AR" sz="2400" spc="-1" strike="noStrike">
                <a:solidFill>
                  <a:srgbClr val="92d050"/>
                </a:solidFill>
                <a:latin typeface="Arial"/>
                <a:ea typeface="Arial"/>
              </a:rPr>
              <a:t> MINISTERIO DE EDUCACIÓN, CIENCIA Y TECNOLOGÍA, PROVINCIA  DEL CHACO</a:t>
            </a:r>
            <a:br>
              <a:rPr sz="2400"/>
            </a:br>
            <a:br>
              <a:rPr sz="2400"/>
            </a:br>
            <a:r>
              <a:rPr b="0" lang="es-AR" sz="2400" spc="-1" strike="noStrike">
                <a:solidFill>
                  <a:srgbClr val="fbd0e4"/>
                </a:solidFill>
                <a:latin typeface="Arial"/>
                <a:ea typeface="Arial"/>
              </a:rPr>
              <a:t>Coordinadora: DORA GÓMEZ.   </a:t>
            </a:r>
            <a:br>
              <a:rPr sz="2400"/>
            </a:br>
            <a:r>
              <a:rPr b="0" lang="es-AR" sz="2400" spc="-1" strike="noStrike">
                <a:solidFill>
                  <a:srgbClr val="fbd0e4"/>
                </a:solidFill>
                <a:latin typeface="Arial"/>
                <a:ea typeface="Arial"/>
              </a:rPr>
              <a:t>Equipo provincial IACE.</a:t>
            </a:r>
            <a:br>
              <a:rPr sz="2400"/>
            </a:br>
            <a:r>
              <a:rPr b="0" lang="es-AR" sz="2400" spc="-1" strike="noStrike">
                <a:solidFill>
                  <a:srgbClr val="fbd0e4"/>
                </a:solidFill>
                <a:latin typeface="Arial"/>
                <a:ea typeface="Arial"/>
              </a:rPr>
              <a:t>Supervisor: ANIBAL SENGHER</a:t>
            </a:r>
            <a:endParaRPr b="0" lang="en-US" sz="24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35" name="Picture 7" descr="Unicef"/>
          <p:cNvPicPr/>
          <p:nvPr/>
        </p:nvPicPr>
        <p:blipFill>
          <a:blip r:embed="rId1">
            <a:grayscl/>
          </a:blip>
          <a:stretch/>
        </p:blipFill>
        <p:spPr>
          <a:xfrm>
            <a:off x="1166760" y="6165720"/>
            <a:ext cx="1749600" cy="43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6" name="Object 4"/>
          <p:cNvGraphicFramePr/>
          <p:nvPr/>
        </p:nvGraphicFramePr>
        <p:xfrm>
          <a:off x="7020000" y="5661000"/>
          <a:ext cx="936720" cy="52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20000" y="5661000"/>
                    <a:ext cx="936720" cy="5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7 Rectángulo"/>
          <p:cNvSpPr/>
          <p:nvPr/>
        </p:nvSpPr>
        <p:spPr>
          <a:xfrm flipH="1">
            <a:off x="6947640" y="6237360"/>
            <a:ext cx="187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C E A D E 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Centro de Apoyo al Desarrollo  Loca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1eeff"/>
                </a:solidFill>
                <a:latin typeface="Arial"/>
                <a:ea typeface="Arial"/>
              </a:rPr>
              <a:t>PROBLEMAS PRIORIZADOS Y ACTIVIDADES JERARQUIZADAS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485" name=""/>
          <p:cNvGraphicFramePr/>
          <p:nvPr/>
        </p:nvGraphicFramePr>
        <p:xfrm>
          <a:off x="539640" y="1784520"/>
          <a:ext cx="8463240" cy="4387680"/>
        </p:xfrm>
        <a:graphic>
          <a:graphicData uri="http://schemas.openxmlformats.org/drawingml/2006/table">
            <a:tbl>
              <a:tblPr/>
              <a:tblGrid>
                <a:gridCol w="3827520"/>
                <a:gridCol w="4635720"/>
              </a:tblGrid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roblemas priorizad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e37939"/>
                      </a:solidFill>
                    </a:lnL>
                    <a:lnR w="5760">
                      <a:solidFill>
                        <a:srgbClr val="e37939"/>
                      </a:solidFill>
                    </a:lnR>
                    <a:lnT w="5760">
                      <a:solidFill>
                        <a:srgbClr val="e37939"/>
                      </a:solidFill>
                    </a:lnT>
                    <a:lnB w="5760">
                      <a:solidFill>
                        <a:srgbClr val="e3793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cciones propuest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e37939"/>
                      </a:solidFill>
                    </a:lnL>
                    <a:lnR w="13680">
                      <a:solidFill>
                        <a:srgbClr val="e37939"/>
                      </a:solidFill>
                    </a:lnR>
                    <a:lnT w="5760">
                      <a:solidFill>
                        <a:srgbClr val="e37939"/>
                      </a:solidFill>
                    </a:lnT>
                    <a:lnB w="5760">
                      <a:solidFill>
                        <a:srgbClr val="e3793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55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Dificultades de aprendizaje y proceso de enseñanza y aprendizaje débil (bajo rendimiento escolar, altos niveles de ausentismo, deserción escolar, repitencia)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e37939"/>
                      </a:solidFill>
                    </a:lnL>
                    <a:lnR w="5760">
                      <a:solidFill>
                        <a:srgbClr val="e37939"/>
                      </a:solidFill>
                    </a:lnR>
                    <a:lnT w="5760">
                      <a:solidFill>
                        <a:srgbClr val="e37939"/>
                      </a:solidFill>
                    </a:lnT>
                    <a:lnB w="5760">
                      <a:solidFill>
                        <a:srgbClr val="e3793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Realizar actividades para lograr la permanencia de los alumnos en la escuela (clases de apoyo, tutorías, talleres pedagógicos, creación de comisiones para la detección de alumnos con dificultades)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Revisar los contenidos curriculares para cada ciclo escolar, realizar reuniones periódicas, elaborar  lineamientos para la mejora de la articulación, buscar apoyo de distintas instituciones y realizar capacitacione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e37939"/>
                      </a:solidFill>
                    </a:lnL>
                    <a:lnR w="13680">
                      <a:solidFill>
                        <a:srgbClr val="e37939"/>
                      </a:solidFill>
                    </a:lnR>
                    <a:lnT w="5760">
                      <a:solidFill>
                        <a:srgbClr val="e37939"/>
                      </a:solidFill>
                    </a:lnT>
                    <a:lnB w="5760">
                      <a:solidFill>
                        <a:srgbClr val="e3793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1eeff"/>
                </a:solidFill>
                <a:latin typeface="Arial"/>
                <a:ea typeface="Arial"/>
              </a:rPr>
              <a:t>PROBLEMAS PRIORIZADOS Y ACTIVIDADES JERARQUIZADAS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468360" y="1784520"/>
          <a:ext cx="8534520" cy="4387680"/>
        </p:xfrm>
        <a:graphic>
          <a:graphicData uri="http://schemas.openxmlformats.org/drawingml/2006/table">
            <a:tbl>
              <a:tblPr/>
              <a:tblGrid>
                <a:gridCol w="3860640"/>
                <a:gridCol w="4673880"/>
              </a:tblGrid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roblemas priorizad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e37939"/>
                      </a:solidFill>
                    </a:lnL>
                    <a:lnR w="5760">
                      <a:solidFill>
                        <a:srgbClr val="e37939"/>
                      </a:solidFill>
                    </a:lnR>
                    <a:lnT w="5760">
                      <a:solidFill>
                        <a:srgbClr val="e37939"/>
                      </a:solidFill>
                    </a:lnT>
                    <a:lnB w="5760">
                      <a:solidFill>
                        <a:srgbClr val="e3793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cciones propuest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e37939"/>
                      </a:solidFill>
                    </a:lnL>
                    <a:lnR w="13680">
                      <a:solidFill>
                        <a:srgbClr val="e37939"/>
                      </a:solidFill>
                    </a:lnR>
                    <a:lnT w="5760">
                      <a:solidFill>
                        <a:srgbClr val="e37939"/>
                      </a:solidFill>
                    </a:lnT>
                    <a:lnB w="5760">
                      <a:solidFill>
                        <a:srgbClr val="e3793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0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breza y marginalidad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valencia de enfermedades infectocontagiosas (parasitosis, chagas, etc.)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to ausentismo debido a familias con “trabajo golondrina” (principalmente en escuelas con población indígena 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e37939"/>
                      </a:solidFill>
                    </a:lnL>
                    <a:lnR w="5760">
                      <a:solidFill>
                        <a:srgbClr val="e37939"/>
                      </a:solidFill>
                    </a:lnR>
                    <a:lnT w="5760">
                      <a:solidFill>
                        <a:srgbClr val="e37939"/>
                      </a:solidFill>
                    </a:lnT>
                    <a:lnB w="5760">
                      <a:solidFill>
                        <a:srgbClr val="e3793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lizar práctica sostenida de lectura en el aula y en la biblioteca.</a:t>
                      </a: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“Horas del cuento” en la biblioteca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ganizar encuentros con narradores, escritores e ilustradore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cer talleres creativos de lectoescritur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lizar concursos de lectura y escritura dando privilegio a la oralidad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lizar narración de cuentos, leyendas, mitos, creencias de las distintas cultura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e37939"/>
                      </a:solidFill>
                    </a:lnL>
                    <a:lnR w="13680">
                      <a:solidFill>
                        <a:srgbClr val="e37939"/>
                      </a:solidFill>
                    </a:lnR>
                    <a:lnT w="5760">
                      <a:solidFill>
                        <a:srgbClr val="e37939"/>
                      </a:solidFill>
                    </a:lnT>
                    <a:lnB w="5760">
                      <a:solidFill>
                        <a:srgbClr val="e3793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404640"/>
            <a:ext cx="777240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1eeff"/>
                </a:solidFill>
                <a:latin typeface="Arial"/>
                <a:ea typeface="Arial"/>
              </a:rPr>
              <a:t>PROBLEMAS PRIORIZADOS Y ACTIVIDADES JERARQUIZADAS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489" name=""/>
          <p:cNvGraphicFramePr/>
          <p:nvPr/>
        </p:nvGraphicFramePr>
        <p:xfrm>
          <a:off x="684360" y="1484280"/>
          <a:ext cx="8208720" cy="5426280"/>
        </p:xfrm>
        <a:graphic>
          <a:graphicData uri="http://schemas.openxmlformats.org/drawingml/2006/table">
            <a:tbl>
              <a:tblPr/>
              <a:tblGrid>
                <a:gridCol w="3713040"/>
                <a:gridCol w="4495680"/>
              </a:tblGrid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roblemas priorizad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e37939"/>
                      </a:solidFill>
                    </a:lnL>
                    <a:lnR w="5760">
                      <a:solidFill>
                        <a:srgbClr val="e37939"/>
                      </a:solidFill>
                    </a:lnR>
                    <a:lnT w="5760">
                      <a:solidFill>
                        <a:srgbClr val="e37939"/>
                      </a:solidFill>
                    </a:lnT>
                    <a:lnB w="5760">
                      <a:solidFill>
                        <a:srgbClr val="e3793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cciones propuest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e37939"/>
                      </a:solidFill>
                    </a:lnL>
                    <a:lnR w="13680">
                      <a:solidFill>
                        <a:srgbClr val="e37939"/>
                      </a:solidFill>
                    </a:lnR>
                    <a:lnT w="5760">
                      <a:solidFill>
                        <a:srgbClr val="e37939"/>
                      </a:solidFill>
                    </a:lnT>
                    <a:lnB w="5760">
                      <a:solidFill>
                        <a:srgbClr val="e3793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55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ficultades para trabajar con alumno/as con capacidades diferentes/necesidades especiale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e37939"/>
                      </a:solidFill>
                    </a:lnL>
                    <a:lnR w="5760">
                      <a:solidFill>
                        <a:srgbClr val="e37939"/>
                      </a:solidFill>
                    </a:lnR>
                    <a:lnT w="5760">
                      <a:solidFill>
                        <a:srgbClr val="e37939"/>
                      </a:solidFill>
                    </a:lnT>
                    <a:lnB w="5760">
                      <a:solidFill>
                        <a:srgbClr val="e3793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lizar práctica sostenida de lectura en el aula y en la biblioteca.</a:t>
                      </a: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ganizar encuentros con narradores, escritores e ilustradores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lizar  talleres creativos de lectoescritura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lizar  talleres con especialistas en capacidades diferente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icipar de la “Radio Escolar”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erar procesos de enseñanza y aprendizaje sobre: Alfarería, Cestería, armar la banda rítmica y el baile escolar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erar </a:t>
                      </a: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dades de formación cultural de la escuela hacia la comunidad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e37939"/>
                      </a:solidFill>
                    </a:lnL>
                    <a:lnR w="13680">
                      <a:solidFill>
                        <a:srgbClr val="e37939"/>
                      </a:solidFill>
                    </a:lnR>
                    <a:lnT w="5760">
                      <a:solidFill>
                        <a:srgbClr val="e37939"/>
                      </a:solidFill>
                    </a:lnT>
                    <a:lnB w="5760">
                      <a:solidFill>
                        <a:srgbClr val="e3793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777240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1eeff"/>
                </a:solidFill>
                <a:latin typeface="Consolas"/>
              </a:rPr>
              <a:t>2 DIMENSIÓN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91" name="Picture 4" descr="maestrro"/>
          <p:cNvPicPr/>
          <p:nvPr/>
        </p:nvPicPr>
        <p:blipFill>
          <a:blip r:embed="rId1"/>
          <a:stretch/>
        </p:blipFill>
        <p:spPr>
          <a:xfrm>
            <a:off x="0" y="0"/>
            <a:ext cx="9169560" cy="6858000"/>
          </a:xfrm>
          <a:prstGeom prst="rect">
            <a:avLst/>
          </a:prstGeom>
          <a:ln w="0">
            <a:noFill/>
          </a:ln>
        </p:spPr>
      </p:pic>
      <p:sp>
        <p:nvSpPr>
          <p:cNvPr id="492" name="WordArt 9"/>
          <p:cNvSpPr txBox="1"/>
          <p:nvPr/>
        </p:nvSpPr>
        <p:spPr>
          <a:xfrm>
            <a:off x="1042920" y="6021360"/>
            <a:ext cx="68421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ERFILES Y DESEMPEÑOS DOCENTES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93" name="4 CuadroTexto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 Black"/>
              </a:rPr>
              <a:t>2 DIMENS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14400" y="333360"/>
            <a:ext cx="777240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1eeff"/>
                </a:solidFill>
                <a:latin typeface="Arial"/>
                <a:ea typeface="Arial"/>
              </a:rPr>
              <a:t>PROBLEMAS PRIORIZADOS Y ACTIVIDADES JERARQUIZADAS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468360" y="1560600"/>
          <a:ext cx="8534520" cy="5253120"/>
        </p:xfrm>
        <a:graphic>
          <a:graphicData uri="http://schemas.openxmlformats.org/drawingml/2006/table">
            <a:tbl>
              <a:tblPr/>
              <a:tblGrid>
                <a:gridCol w="3860640"/>
                <a:gridCol w="4673880"/>
              </a:tblGrid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roblemas priorizad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e37939"/>
                      </a:solidFill>
                    </a:lnL>
                    <a:lnR w="5760">
                      <a:solidFill>
                        <a:srgbClr val="e37939"/>
                      </a:solidFill>
                    </a:lnR>
                    <a:lnT w="5760">
                      <a:solidFill>
                        <a:srgbClr val="e37939"/>
                      </a:solidFill>
                    </a:lnT>
                    <a:lnB w="5760">
                      <a:solidFill>
                        <a:srgbClr val="e3793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cciones propuest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e37939"/>
                      </a:solidFill>
                    </a:lnL>
                    <a:lnR w="13680">
                      <a:solidFill>
                        <a:srgbClr val="e37939"/>
                      </a:solidFill>
                    </a:lnR>
                    <a:lnT w="5760">
                      <a:solidFill>
                        <a:srgbClr val="e37939"/>
                      </a:solidFill>
                    </a:lnT>
                    <a:lnB w="5760">
                      <a:solidFill>
                        <a:srgbClr val="e3793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65520">
                <a:tc>
                  <a:txBody>
                    <a:bodyPr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Dificultades en la adquisición de determinados valores y actitudes en los alumnos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nflictos de convivencia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Problemas de disciplina.</a:t>
                      </a: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 Violencia Familiar-Escolar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e37939"/>
                      </a:solidFill>
                    </a:lnL>
                    <a:lnR w="5760">
                      <a:solidFill>
                        <a:srgbClr val="e37939"/>
                      </a:solidFill>
                    </a:lnR>
                    <a:lnT w="5760">
                      <a:solidFill>
                        <a:srgbClr val="e37939"/>
                      </a:solidFill>
                    </a:lnT>
                    <a:lnB w="5760">
                      <a:solidFill>
                        <a:srgbClr val="e3793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Preparar una lista de posibles conflictos que se vayan suscitando y las normas de negociación que sugieran para solucionarlos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Elaborar un código de convivencia y realizar encuentros con toda la comunidad para su socialización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Realizar actividades que reúnan a los distintos actores (talleres sobre convivencia escolar, proyectos específicos)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rear la figura de un mediador de la comunicación para optimizar los medios de comunicación existentes e incrementar los canales de comunicación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e37939"/>
                      </a:solidFill>
                    </a:lnL>
                    <a:lnR w="13680">
                      <a:solidFill>
                        <a:srgbClr val="e37939"/>
                      </a:solidFill>
                    </a:lnR>
                    <a:lnT w="5760">
                      <a:solidFill>
                        <a:srgbClr val="e37939"/>
                      </a:solidFill>
                    </a:lnT>
                    <a:lnB w="5760">
                      <a:solidFill>
                        <a:srgbClr val="e3793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6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6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6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6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1eeff"/>
                </a:solidFill>
                <a:latin typeface="Arial"/>
                <a:ea typeface="Arial"/>
              </a:rPr>
              <a:t>PROBLEMAS PRIORIZADOS Y ACTIVIDADES JERARQUIZADAS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539640" y="1784520"/>
          <a:ext cx="8463240" cy="4754520"/>
        </p:xfrm>
        <a:graphic>
          <a:graphicData uri="http://schemas.openxmlformats.org/drawingml/2006/table">
            <a:tbl>
              <a:tblPr/>
              <a:tblGrid>
                <a:gridCol w="3827520"/>
                <a:gridCol w="4635720"/>
              </a:tblGrid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roblemas priorizad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e37939"/>
                      </a:solidFill>
                    </a:lnL>
                    <a:lnR w="5760">
                      <a:solidFill>
                        <a:srgbClr val="e37939"/>
                      </a:solidFill>
                    </a:lnR>
                    <a:lnT w="5760">
                      <a:solidFill>
                        <a:srgbClr val="e37939"/>
                      </a:solidFill>
                    </a:lnT>
                    <a:lnB w="5760">
                      <a:solidFill>
                        <a:srgbClr val="e3793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cciones propuest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e37939"/>
                      </a:solidFill>
                    </a:lnL>
                    <a:lnR w="13680">
                      <a:solidFill>
                        <a:srgbClr val="e37939"/>
                      </a:solidFill>
                    </a:lnR>
                    <a:lnT w="5760">
                      <a:solidFill>
                        <a:srgbClr val="e37939"/>
                      </a:solidFill>
                    </a:lnT>
                    <a:lnB w="5760">
                      <a:solidFill>
                        <a:srgbClr val="e3793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75440">
                <a:tc>
                  <a:txBody>
                    <a:bodyPr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Falta de compromiso de las familias con respecto a la escuela.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Debilidad en materia de acuerdos con organizaciones locale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Escasos lazos vinculares-interpersonales entre miembros de la comunidad educativa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e37939"/>
                      </a:solidFill>
                    </a:lnL>
                    <a:lnR w="5760">
                      <a:solidFill>
                        <a:srgbClr val="e37939"/>
                      </a:solidFill>
                    </a:lnR>
                    <a:lnT w="5760">
                      <a:solidFill>
                        <a:srgbClr val="e37939"/>
                      </a:solidFill>
                    </a:lnT>
                    <a:lnB w="5760">
                      <a:solidFill>
                        <a:srgbClr val="e3793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Organizar ciclos de charlas, paneles, seminarios, y conferencias acerca de la problemática de la violencia familiar-escolar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nvocar a familias y organizar reuniones para hacerlos partícipes de las actividades de la institución (cooperadora, actos escolares, etc.)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Sensibilizar a toda la comunidad a través de campaña gráfica, expositiva y radial sobre las problemáticas educativas 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rabajar en red con otras organizaciones y/o actores de la comunidad para tratar distintas problemáticas socio educativa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e37939"/>
                      </a:solidFill>
                    </a:lnL>
                    <a:lnR w="13680">
                      <a:solidFill>
                        <a:srgbClr val="e37939"/>
                      </a:solidFill>
                    </a:lnR>
                    <a:lnT w="5760">
                      <a:solidFill>
                        <a:srgbClr val="e37939"/>
                      </a:solidFill>
                    </a:lnT>
                    <a:lnB w="5760">
                      <a:solidFill>
                        <a:srgbClr val="e3793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3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3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c1eeff"/>
                </a:solidFill>
                <a:latin typeface="Consolas"/>
              </a:rPr>
              <a:t>3 DIMENSIÓN: Desempeño y Gestión Institucional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99" name="Picture 4" descr="clases edif viejo"/>
          <p:cNvPicPr/>
          <p:nvPr/>
        </p:nvPicPr>
        <p:blipFill>
          <a:blip r:embed="rId1"/>
          <a:stretch/>
        </p:blipFill>
        <p:spPr>
          <a:xfrm>
            <a:off x="0" y="297000"/>
            <a:ext cx="9144000" cy="6561000"/>
          </a:xfrm>
          <a:prstGeom prst="rect">
            <a:avLst/>
          </a:prstGeom>
          <a:ln w="0">
            <a:noFill/>
          </a:ln>
        </p:spPr>
      </p:pic>
      <p:sp>
        <p:nvSpPr>
          <p:cNvPr id="500" name="5 CuadroTexto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3 DIMENSIÓN: Capacidades y Gestión Instituc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1eeff"/>
                </a:solidFill>
                <a:latin typeface="Arial"/>
                <a:ea typeface="Arial"/>
              </a:rPr>
              <a:t>PROBLEMAS PRIORIZADOS Y ACTIVIDADES JERARQUIZADAS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502" name=""/>
          <p:cNvGraphicFramePr/>
          <p:nvPr/>
        </p:nvGraphicFramePr>
        <p:xfrm>
          <a:off x="539640" y="1784520"/>
          <a:ext cx="8463240" cy="4387680"/>
        </p:xfrm>
        <a:graphic>
          <a:graphicData uri="http://schemas.openxmlformats.org/drawingml/2006/table">
            <a:tbl>
              <a:tblPr/>
              <a:tblGrid>
                <a:gridCol w="3827520"/>
                <a:gridCol w="4635720"/>
              </a:tblGrid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roblemas priorizad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e37939"/>
                      </a:solidFill>
                    </a:lnL>
                    <a:lnR w="5760">
                      <a:solidFill>
                        <a:srgbClr val="e37939"/>
                      </a:solidFill>
                    </a:lnR>
                    <a:lnT w="5760">
                      <a:solidFill>
                        <a:srgbClr val="e37939"/>
                      </a:solidFill>
                    </a:lnT>
                    <a:lnB w="5760">
                      <a:solidFill>
                        <a:srgbClr val="e3793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cciones propuest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e37939"/>
                      </a:solidFill>
                    </a:lnL>
                    <a:lnR w="13680">
                      <a:solidFill>
                        <a:srgbClr val="e37939"/>
                      </a:solidFill>
                    </a:lnR>
                    <a:lnT w="5760">
                      <a:solidFill>
                        <a:srgbClr val="e37939"/>
                      </a:solidFill>
                    </a:lnT>
                    <a:lnB w="5760">
                      <a:solidFill>
                        <a:srgbClr val="e3793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0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Inadecuación de la estructura edilicia: </a:t>
                      </a:r>
                      <a:r>
                        <a:rPr b="0" lang="es-AR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déficit de espacio físico y de mantenimiento edilicio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Inadecuación del mobiliario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Escaso personal de servicio, que se refleja en la falta de higiene del establecimiento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e37939"/>
                      </a:solidFill>
                    </a:lnL>
                    <a:lnR w="5760">
                      <a:solidFill>
                        <a:srgbClr val="e37939"/>
                      </a:solidFill>
                    </a:lnR>
                    <a:lnT w="5760">
                      <a:solidFill>
                        <a:srgbClr val="e37939"/>
                      </a:solidFill>
                    </a:lnT>
                    <a:lnB w="5760">
                      <a:solidFill>
                        <a:srgbClr val="e3793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Gestiones ante el Ministerio para satisfacer requerimientos específicos de infraestructura, equipamiento, material didáctico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Realizar ferias para la recaudación de fondo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Reorganizar el personal disponible para la mejora de la higiene del establecimiento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Formar comisiones de padres, docentes y ex alumnos</a:t>
                      </a: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e37939"/>
                      </a:solidFill>
                    </a:lnL>
                    <a:lnR w="13680">
                      <a:solidFill>
                        <a:srgbClr val="e37939"/>
                      </a:solidFill>
                    </a:lnR>
                    <a:lnT w="5760">
                      <a:solidFill>
                        <a:srgbClr val="e37939"/>
                      </a:solidFill>
                    </a:lnT>
                    <a:lnB w="5760">
                      <a:solidFill>
                        <a:srgbClr val="e3793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2139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12 Triángulo isósceles"/>
          <p:cNvSpPr/>
          <p:nvPr/>
        </p:nvSpPr>
        <p:spPr>
          <a:xfrm>
            <a:off x="539640" y="260280"/>
            <a:ext cx="8280360" cy="6193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d6ecff"/>
              </a:gs>
              <a:gs pos="50000">
                <a:srgbClr val="636d76"/>
              </a:gs>
              <a:gs pos="100000">
                <a:srgbClr val="d6ecff"/>
              </a:gs>
            </a:gsLst>
            <a:lin ang="5400000"/>
          </a:gra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4" name="9 Rectángulo" descr=""/>
          <p:cNvPicPr/>
          <p:nvPr/>
        </p:nvPicPr>
        <p:blipFill>
          <a:blip r:embed="rId1"/>
          <a:stretch/>
        </p:blipFill>
        <p:spPr>
          <a:xfrm>
            <a:off x="1828800" y="6686640"/>
            <a:ext cx="5699160" cy="1098360"/>
          </a:xfrm>
          <a:prstGeom prst="rect">
            <a:avLst/>
          </a:prstGeom>
          <a:ln w="0">
            <a:noFill/>
          </a:ln>
        </p:spPr>
      </p:pic>
      <p:pic>
        <p:nvPicPr>
          <p:cNvPr id="505" name="10 Rectángulo" descr=""/>
          <p:cNvPicPr/>
          <p:nvPr/>
        </p:nvPicPr>
        <p:blipFill>
          <a:blip r:embed="rId2"/>
          <a:stretch/>
        </p:blipFill>
        <p:spPr>
          <a:xfrm>
            <a:off x="-3932280" y="2639880"/>
            <a:ext cx="4029120" cy="1140120"/>
          </a:xfrm>
          <a:prstGeom prst="rect">
            <a:avLst/>
          </a:prstGeom>
          <a:ln w="0">
            <a:noFill/>
          </a:ln>
        </p:spPr>
      </p:pic>
      <p:pic>
        <p:nvPicPr>
          <p:cNvPr id="506" name="11 Rectángulo" descr=""/>
          <p:cNvPicPr/>
          <p:nvPr/>
        </p:nvPicPr>
        <p:blipFill>
          <a:blip r:embed="rId3"/>
          <a:stretch/>
        </p:blipFill>
        <p:spPr>
          <a:xfrm>
            <a:off x="8948880" y="-646200"/>
            <a:ext cx="3127320" cy="11160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0.3328 L -0.004 -0.2519 E">
                                      <p:cBhvr>
                                        <p:cTn id="234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809 0.00624 L 0.72534 0.00624 E">
                                      <p:cBhvr>
                                        <p:cTn id="237" dur="2000" fill="hold"/>
                                        <p:tgtEl>
                                          <p:spTgt spid="5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4000"/>
                            </p:stCondLst>
                            <p:childTnLst>
                              <p:par>
                                <p:cTn id="23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64219 0.16385 E">
                                      <p:cBhvr>
                                        <p:cTn id="240" dur="2000" fill="hold"/>
                                        <p:tgtEl>
                                          <p:spTgt spid="5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2139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53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c1eeff"/>
                </a:solidFill>
                <a:latin typeface="Arial"/>
                <a:ea typeface="Arial"/>
              </a:rPr>
              <a:t> </a:t>
            </a:r>
            <a:r>
              <a:rPr b="1" lang="es-MX" sz="3000" spc="-1" strike="noStrike">
                <a:solidFill>
                  <a:srgbClr val="c1eeff"/>
                </a:solidFill>
                <a:latin typeface="Arial"/>
                <a:ea typeface="Arial"/>
              </a:rPr>
              <a:t>Fortalezas y desafíos (según la consolidación y sistematización de información emergente de los diferentes procesos aplicativos)</a:t>
            </a:r>
            <a:endParaRPr b="0" lang="en-US" sz="3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539640" y="1809720"/>
            <a:ext cx="8275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eb80a"/>
                </a:solidFill>
                <a:latin typeface="Arial"/>
                <a:ea typeface="Arial"/>
              </a:rPr>
              <a:t>Fortalezas :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  <a:ea typeface="Arial"/>
              </a:rPr>
              <a:t>Adhesión y compromiso de las autoridades educativas provinciales y de los supervisores con el proceso de autoevaluación de la Calidad Educativa.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  <a:ea typeface="Arial"/>
              </a:rPr>
              <a:t>Existencia de un Equipo Provincial que articula  con las respectivas Direcciones de Nivel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  <a:ea typeface="Arial"/>
              </a:rPr>
              <a:t>Coordinación vertical y horizontal: articulación entre diferentes actores (también desafío)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wheel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7" dur="20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2000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4000"/>
                            </p:stCondLst>
                            <p:childTnLst>
                              <p:par>
                                <p:cTn id="2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5" dur="2000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9" dur="2000"/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424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 u="sng">
                <a:solidFill>
                  <a:srgbClr val="a7d6ff"/>
                </a:solidFill>
                <a:uFillTx/>
                <a:latin typeface="Arial"/>
                <a:ea typeface="Arial"/>
              </a:rPr>
              <a:t> </a:t>
            </a:r>
            <a:r>
              <a:rPr b="1" lang="es-MX" sz="4000" spc="-1" strike="noStrike" u="sng">
                <a:solidFill>
                  <a:srgbClr val="a7d6ff"/>
                </a:solidFill>
                <a:uFillTx/>
                <a:latin typeface="Arial"/>
                <a:ea typeface="Arial"/>
              </a:rPr>
              <a:t>PRESENTACIÓ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539280" y="1160640"/>
            <a:ext cx="820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61440" indent="-301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Cronología de la aplicación del IACE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Indicadores educativos provinciale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Problemas priorizados y actividad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jerarquizada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Fortalezas y desafío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Reflexiones finales.     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wheel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10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1000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1000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1000"/>
                                        <p:tgtEl>
                                          <p:spTgt spid="4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1000"/>
                                        <p:tgtEl>
                                          <p:spTgt spid="4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1000"/>
                                        <p:tgtEl>
                                          <p:spTgt spid="4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2139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Arial"/>
                <a:ea typeface="Arial"/>
              </a:rPr>
              <a:t>Reflexiones finales  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68000" y="1197000"/>
            <a:ext cx="8147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66480" indent="-3664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  <a:ea typeface="Arial"/>
              </a:rPr>
              <a:t>En relación a los efectos sobre la dinámica escolar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6480" indent="-366480" algn="just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  <a:ea typeface="Arial"/>
              </a:rPr>
              <a:t>A lo largo del trabajo, se logró reforzar el conocimiento y los lazos dentro del plantel educativo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6480" indent="-366480" algn="just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  <a:ea typeface="Arial"/>
              </a:rPr>
              <a:t>Se mejoró del vínculo con los padres 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6480" indent="-366480" algn="just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  <a:ea typeface="Arial"/>
              </a:rPr>
              <a:t>Se trabajó en equipo y se reflexionó sobre la práctica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6480" indent="-366480" algn="just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  <a:ea typeface="Arial"/>
              </a:rPr>
              <a:t>Se promovió la generación de debate y el arribo a consenso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6480" indent="-3664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wheel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2139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Arial Black"/>
                <a:ea typeface="Arial"/>
              </a:rPr>
              <a:t>Algunas reflexiones más…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539280" y="126792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51360" indent="-351360" algn="just">
              <a:lnSpc>
                <a:spcPct val="100000"/>
              </a:lnSpc>
              <a:spcBef>
                <a:spcPts val="799"/>
              </a:spcBef>
              <a:buClr>
                <a:srgbClr val="d6ec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  <a:ea typeface="Arial"/>
              </a:rPr>
              <a:t>Se tomó conocimiento sobre la realidad del establecimiento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51360" indent="-351360" algn="just">
              <a:lnSpc>
                <a:spcPct val="100000"/>
              </a:lnSpc>
              <a:spcBef>
                <a:spcPts val="799"/>
              </a:spcBef>
              <a:buClr>
                <a:srgbClr val="d6ec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51360" indent="-351360" algn="just">
              <a:lnSpc>
                <a:spcPct val="100000"/>
              </a:lnSpc>
              <a:spcBef>
                <a:spcPts val="799"/>
              </a:spcBef>
              <a:buClr>
                <a:srgbClr val="d6ec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  <a:ea typeface="Arial"/>
              </a:rPr>
              <a:t>Interés por elaborar Planes de Mejora que tuvieran atributos de viabilidad y adecuación técnica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51360" indent="-351360" algn="just">
              <a:lnSpc>
                <a:spcPct val="100000"/>
              </a:lnSpc>
              <a:spcBef>
                <a:spcPts val="799"/>
              </a:spcBef>
              <a:buClr>
                <a:srgbClr val="d6ec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51360" indent="-351360" algn="just">
              <a:lnSpc>
                <a:spcPct val="100000"/>
              </a:lnSpc>
              <a:spcBef>
                <a:spcPts val="799"/>
              </a:spcBef>
              <a:buClr>
                <a:srgbClr val="d6ec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  <a:ea typeface="Arial"/>
              </a:rPr>
              <a:t>Se  identificaron las  problemáticas pedagógicas para su posterior solución a través de los Planes de Acción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51360" indent="-35136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wheel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514" name="6 Marcador de contenido" descr="maest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5" name="7 CuadroTexto" descr=""/>
          <p:cNvPicPr/>
          <p:nvPr/>
        </p:nvPicPr>
        <p:blipFill>
          <a:blip r:embed="rId2"/>
          <a:stretch/>
        </p:blipFill>
        <p:spPr>
          <a:xfrm>
            <a:off x="-171360" y="-96840"/>
            <a:ext cx="9448560" cy="76212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7" descr="hombre letras"/>
          <p:cNvPicPr/>
          <p:nvPr/>
        </p:nvPicPr>
        <p:blipFill>
          <a:blip r:embed="rId1"/>
          <a:stretch/>
        </p:blipFill>
        <p:spPr>
          <a:xfrm>
            <a:off x="324000" y="0"/>
            <a:ext cx="8820000" cy="7093080"/>
          </a:xfrm>
          <a:prstGeom prst="rect">
            <a:avLst/>
          </a:prstGeom>
          <a:ln w="0">
            <a:noFill/>
          </a:ln>
        </p:spPr>
      </p:pic>
      <p:sp>
        <p:nvSpPr>
          <p:cNvPr id="517" name="3 CuadroTexto"/>
          <p:cNvSpPr/>
          <p:nvPr/>
        </p:nvSpPr>
        <p:spPr>
          <a:xfrm>
            <a:off x="684360" y="0"/>
            <a:ext cx="84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LA META: GENERAR CULTURA DE AUTOEVALU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706320" y="1351080"/>
            <a:ext cx="571824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38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520" name="8 Imagen" descr="pintorcit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1" name="9 CuadroTexto"/>
          <p:cNvSpPr/>
          <p:nvPr/>
        </p:nvSpPr>
        <p:spPr>
          <a:xfrm>
            <a:off x="0" y="6021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 Black"/>
              </a:rPr>
              <a:t>Y PROPICIAR LA SUPERACIÓN Y EL  CRECIMI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800" spc="-1" strike="noStrike">
                <a:solidFill>
                  <a:srgbClr val="c1eeff"/>
                </a:solidFill>
                <a:latin typeface="Consolas"/>
              </a:rPr>
              <a:t>IACE  EN EL CHACO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523" name="6 Marcador de contenido" descr="Bandera-Argentina1.jpg"/>
          <p:cNvPicPr/>
          <p:nvPr/>
        </p:nvPicPr>
        <p:blipFill>
          <a:blip r:embed="rId1"/>
          <a:stretch/>
        </p:blipFill>
        <p:spPr>
          <a:xfrm>
            <a:off x="468360" y="2060640"/>
            <a:ext cx="4038480" cy="3030480"/>
          </a:xfrm>
          <a:prstGeom prst="rect">
            <a:avLst/>
          </a:prstGeom>
          <a:ln w="0">
            <a:noFill/>
          </a:ln>
        </p:spPr>
      </p:pic>
      <p:pic>
        <p:nvPicPr>
          <p:cNvPr id="524" name="8 Marcador de contenido" descr="niñas_felices.jpg"/>
          <p:cNvPicPr/>
          <p:nvPr/>
        </p:nvPicPr>
        <p:blipFill>
          <a:blip r:embed="rId2"/>
          <a:stretch/>
        </p:blipFill>
        <p:spPr>
          <a:xfrm>
            <a:off x="4572000" y="1989000"/>
            <a:ext cx="4129200" cy="309564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3" dur="3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000"/>
                            </p:stCondLst>
                            <p:childTnLst>
                              <p:par>
                                <p:cTn id="2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4000"/>
                            </p:stCondLst>
                            <p:childTnLst>
                              <p:par>
                                <p:cTn id="2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3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e39d"/>
                </a:solidFill>
                <a:latin typeface="Consolas"/>
              </a:rPr>
              <a:t>MUCHAS GRACIAS!!!!!!!!!!!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526" name="5 Marcador de posición de imagen" descr="niños sombra.jpg"/>
          <p:cNvPicPr/>
          <p:nvPr/>
        </p:nvPicPr>
        <p:blipFill>
          <a:blip r:embed="rId1"/>
          <a:srcRect l="1107" t="0" r="1107" b="0"/>
          <a:stretch/>
        </p:blipFill>
        <p:spPr>
          <a:xfrm>
            <a:off x="947880" y="1268280"/>
            <a:ext cx="7296120" cy="54738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332000" y="981000"/>
            <a:ext cx="6624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900" spc="-1" strike="noStrike">
                <a:solidFill>
                  <a:srgbClr val="c1eeff"/>
                </a:solidFill>
                <a:latin typeface="Consolas"/>
              </a:rPr>
              <a:t>DESDE   2009</a:t>
            </a:r>
            <a:endParaRPr b="0" lang="en-US" sz="49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442" name="Object 2"/>
          <p:cNvGraphicFramePr/>
          <p:nvPr/>
        </p:nvGraphicFramePr>
        <p:xfrm>
          <a:off x="1692360" y="0"/>
          <a:ext cx="5975280" cy="112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0"/>
                    <a:ext cx="5975280" cy="11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4" name="5 Marcador de contenido" descr="regiones educativas.jpg"/>
          <p:cNvPicPr/>
          <p:nvPr/>
        </p:nvPicPr>
        <p:blipFill>
          <a:blip r:embed="rId3"/>
          <a:stretch/>
        </p:blipFill>
        <p:spPr>
          <a:xfrm>
            <a:off x="1566720" y="1784520"/>
            <a:ext cx="646776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ec8e0"/>
                </a:solidFill>
                <a:latin typeface="Consolas"/>
              </a:rPr>
              <a:t> </a:t>
            </a:r>
            <a:r>
              <a:rPr b="1" lang="es-AR" sz="4000" spc="-1" strike="noStrike">
                <a:solidFill>
                  <a:srgbClr val="ff0000"/>
                </a:solidFill>
                <a:latin typeface="Arial"/>
                <a:ea typeface="Arial"/>
              </a:rPr>
              <a:t>Cronología IACE – Chaco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6" name="5 CuadroTexto"/>
          <p:cNvSpPr/>
          <p:nvPr/>
        </p:nvSpPr>
        <p:spPr>
          <a:xfrm>
            <a:off x="684360" y="981000"/>
            <a:ext cx="8135640" cy="47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92d050"/>
                </a:solidFill>
                <a:latin typeface="Arial"/>
              </a:rPr>
              <a:t>2009</a:t>
            </a: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: Aplicación en 60 escuelas primar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92d050"/>
                </a:solidFill>
                <a:latin typeface="Arial"/>
              </a:rPr>
              <a:t>2010</a:t>
            </a: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: Aplicación en 72 escuelas primar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92d050"/>
                </a:solidFill>
                <a:latin typeface="Arial"/>
              </a:rPr>
              <a:t>2011</a:t>
            </a: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: Aplicación en 48 escuelas primar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c000"/>
                </a:solidFill>
                <a:latin typeface="Arial"/>
              </a:rPr>
              <a:t>Total: 180 escuelas primarias; 69.000 alumnos y 3.300 docen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8 CuadroTexto"/>
          <p:cNvSpPr/>
          <p:nvPr/>
        </p:nvSpPr>
        <p:spPr>
          <a:xfrm>
            <a:off x="826920" y="4495680"/>
            <a:ext cx="784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 u="sng">
                <a:solidFill>
                  <a:srgbClr val="00b0f0"/>
                </a:solidFill>
                <a:uFillTx/>
                <a:latin typeface="Arial Black"/>
              </a:rPr>
              <a:t>UBICACIÓN: 15 Localidades</a:t>
            </a:r>
            <a:r>
              <a:rPr b="0" lang="es-AR" sz="2400" spc="-1" strike="noStrike">
                <a:solidFill>
                  <a:srgbClr val="00b0f0"/>
                </a:solidFill>
                <a:latin typeface="Arial"/>
              </a:rPr>
              <a:t>: 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Resistencia, Barranqueras, Charatas, Fontana, Gral. San Martín, Las Breñas, Las Garcitas, Las Palmas, Machagai, Pampa del Infierno, Pinedo, Pte. R. Sáenz Peña, Puerto Tirol, Puerto Vilelas, Santa Silvi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619280" y="1197000"/>
            <a:ext cx="6121440" cy="1440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ffff"/>
                </a:solidFill>
                <a:latin typeface="Consolas"/>
              </a:rPr>
              <a:t>INDICES PROVINCIALES </a:t>
            </a:r>
            <a:br>
              <a:rPr sz="4000"/>
            </a:br>
            <a:r>
              <a:rPr b="0" lang="es-AR" sz="4000" spc="-1" strike="noStrike">
                <a:solidFill>
                  <a:srgbClr val="ffffff"/>
                </a:solidFill>
                <a:latin typeface="Consolas"/>
              </a:rPr>
              <a:t>ÚLTIMOS 5 AÑOS</a:t>
            </a:r>
            <a:br>
              <a:rPr sz="4000"/>
            </a:br>
            <a:br>
              <a:rPr sz="4000"/>
            </a:br>
            <a:r>
              <a:rPr b="1" lang="es-AR" sz="2800" spc="-1" strike="noStrike">
                <a:solidFill>
                  <a:srgbClr val="61b6ff"/>
                </a:solidFill>
                <a:latin typeface="Arial"/>
                <a:ea typeface="Arial"/>
              </a:rPr>
              <a:t>Subsecretaría de Educación</a:t>
            </a:r>
            <a:br>
              <a:rPr sz="2800"/>
            </a:br>
            <a:br>
              <a:rPr sz="2800"/>
            </a:br>
            <a:r>
              <a:rPr b="0" lang="es-AR" sz="3600" spc="-1" strike="noStrike">
                <a:solidFill>
                  <a:srgbClr val="ccedb1"/>
                </a:solidFill>
                <a:latin typeface="Arial"/>
                <a:ea typeface="Arial"/>
              </a:rPr>
              <a:t>Dirección General de Planeamiento y Evaluación Estadística Educativa</a:t>
            </a:r>
            <a:br>
              <a:rPr sz="3600"/>
            </a:b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449" name="Object 2"/>
          <p:cNvGraphicFramePr/>
          <p:nvPr/>
        </p:nvGraphicFramePr>
        <p:xfrm>
          <a:off x="1692360" y="0"/>
          <a:ext cx="5975280" cy="112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0"/>
                    <a:ext cx="5975280" cy="11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6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7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8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89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2139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c1eeff"/>
                </a:solidFill>
                <a:latin typeface="Consolas"/>
              </a:rPr>
              <a:t>ÍNDICES PROVINCIALES 2006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53" name="1 Gráfico" descr=""/>
          <p:cNvPicPr/>
          <p:nvPr/>
        </p:nvPicPr>
        <p:blipFill>
          <a:blip r:embed="rId1"/>
          <a:stretch/>
        </p:blipFill>
        <p:spPr>
          <a:xfrm>
            <a:off x="2114640" y="1841400"/>
            <a:ext cx="5975280" cy="45468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2139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c1eeff"/>
                </a:solidFill>
                <a:latin typeface="Consolas"/>
              </a:rPr>
              <a:t>ÍNDICES PROVINCIALES 2007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55" name="4 Gráfico" descr=""/>
          <p:cNvPicPr/>
          <p:nvPr/>
        </p:nvPicPr>
        <p:blipFill>
          <a:blip r:embed="rId1"/>
          <a:stretch/>
        </p:blipFill>
        <p:spPr>
          <a:xfrm>
            <a:off x="907920" y="1779480"/>
            <a:ext cx="7785360" cy="458496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2139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c1eeff"/>
                </a:solidFill>
                <a:latin typeface="Consolas"/>
              </a:rPr>
              <a:t>ÍNDICES PROVINCIALES 2008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914400" y="1784520"/>
            <a:ext cx="7772400" cy="4572000"/>
          </a:xfrm>
          <a:prstGeom prst="rect">
            <a:avLst/>
          </a:prstGeom>
          <a:ln w="0">
            <a:noFill/>
          </a:ln>
        </p:spPr>
      </p:pic>
      <p:pic>
        <p:nvPicPr>
          <p:cNvPr id="458" name="5 Gráfico" descr=""/>
          <p:cNvPicPr/>
          <p:nvPr/>
        </p:nvPicPr>
        <p:blipFill>
          <a:blip r:embed="rId2"/>
          <a:stretch/>
        </p:blipFill>
        <p:spPr>
          <a:xfrm>
            <a:off x="1755720" y="1695600"/>
            <a:ext cx="5845320" cy="440676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" dur="3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7T19:46:40Z</dcterms:created>
  <dc:creator>Alumno</dc:creator>
  <dc:description/>
  <dc:language>en-US</dc:language>
  <cp:lastModifiedBy>Alumno</cp:lastModifiedBy>
  <dcterms:modified xsi:type="dcterms:W3CDTF">2012-06-08T15:51:53Z</dcterms:modified>
  <cp:revision>116</cp:revision>
  <dc:subject/>
  <dc:title>Diapositiva 1</dc:title>
</cp:coreProperties>
</file>